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4.wmf" ContentType="image/x-wmf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83F-F4F8-486D-8561-807EEBCD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FBC-DEAE-4567-B507-8B75D54F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E5617-1DBB-43BD-843F-EEDC0AC7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58B9-CA58-4D0E-A78B-500EACE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0AD29-76A7-4BBA-8E45-2B19E2AC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87FA-47B4-4106-B707-87E1F005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9B93-25D3-487C-BD44-5E5BDE5E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D59E-A922-4A9D-87E8-8870A98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608D-F197-44C5-9415-5ED36EDE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FAA3-33BB-443B-B6ED-2FA670E7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5DFB-816C-44D8-B163-8C1C7FBF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2BEEC-B1D7-4B42-BC4F-9FB13616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1DF-AD7D-4C96-8542-E030491B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CDEE7-E7A3-45B9-A575-DA1C4B13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C1C88-4707-4851-B31E-D637E804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41758-7DB0-4DD6-9CD8-C89D497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B0C0F-1FDD-4A49-8204-610272F0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23B85-C11C-4957-BAEB-896BE3AC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18BF3-0DD4-4ED4-BD34-6266FA7F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86E1-93AE-46E0-AED3-09D1C3C0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269B1-1FBA-44AB-9258-93FA9A6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B18D-1372-4F46-9367-B9CFA89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62E1-0820-4CE6-8BBE-AE9AC78C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8E3-7763-4EF1-9676-502099C5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28158-ED08-4D7D-906D-6DD247C3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27005-6A89-42C2-9778-C2897A9A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20092-3E94-4876-8528-DA3D7D9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56E57-F702-4DD6-AE26-43B1663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067E0-0B8B-47A4-9B01-A36B6AC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4F505-78F1-45CB-8C3A-09A8562D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817F9-5AA1-4467-9C8B-50957731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94BF7-707B-4690-B17F-48559EB6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C531B-923F-4729-B140-64EF89B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5A0AE-8EE8-4B7F-B145-FBBDB36D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CDF76-DAE7-48A5-B515-AE0CF005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328A5-356A-445F-9E72-8E75CAAC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14137-2D5A-4745-99BB-61CE7ADE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010FE-F8C2-4698-A4BF-F7ACD3D9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2EA66-06BC-46CB-87AB-19D5974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FCB63-BF13-4540-A953-C872C717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2B3BD-6903-4EB6-860C-4E1864FD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5091D-8999-4FB2-B2E9-206659AB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FA723-9408-41B1-9CA9-EDC4991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2FF8B-AC76-4186-A473-B3A9FC7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79E16-2875-4B8D-AD94-B73DDE6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52BF8-0582-474F-9B94-3950F51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B05A1-8C99-441D-AC8A-EFB421E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64FC4-BE51-4B6A-83CC-EF6403F1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B61B5-CE48-4216-BB39-9BE637F2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A8F7B-A20A-4A73-B7DF-CD1800C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0092B-6A4D-49D4-8780-DEA180EB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1382F-804C-490E-81FA-D3E23BE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13DA0-D83B-4EAB-A9FD-6DAAA974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9E33-D8A5-455B-845B-7229202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EA4F1-6D73-4642-A319-BA7A672E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6A05-04D6-48B0-BD84-2D9D8D84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52538-7C47-45C8-A16E-498D176B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EA91C-04CE-4A03-89BE-7E6F6DF7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441BE-6064-4AB4-95D5-4BB45E34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8859-BCD5-4A55-89F1-7A20D7DE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5A4A1-53E5-4197-9112-986CFC59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B754E-CFB1-47B6-9266-7514BF8F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CE537-FA26-4519-AEB7-E77C1577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33565-534D-4EC8-84AA-DBEE004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FC4B6-8D94-4BFC-8363-4950B776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2AA33-0B28-48A7-9CC9-3A6B4BFC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7E5B0-B01A-4E06-A95C-0D2FFB61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C54E6-0A52-414F-99DA-E3141E1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EACDE-EC5C-4D54-9E04-E7A90AB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4D749-E425-4E1B-9473-E4D1B314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BB20E-A179-478D-9EAA-08EECD04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DD598-BBD7-48FC-B934-518BDF36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FF96D-7098-417B-94CF-425B809C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052AC-B810-4913-A446-8353E0D7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9C0ED-6C72-40B0-B9FD-84399AE1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6992B-865E-4350-8986-6D5AFE0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AFA55-CEC0-4C3F-994B-ADA180A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715F0-5151-4E69-BD06-E2FCFA0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5599F-F41E-43ED-AA87-A69E586C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00509-2267-46A7-9408-8404EA1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DD1F9-CFE5-4ED6-9D51-4AC0C513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3A1D8-D5FE-4915-8517-7C7B19C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53765-C4FB-4680-8270-BC53C553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BD02D-93EC-476C-BEF4-F8D4F38F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42F32-0482-41E4-A958-75028843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4D4AA-F411-4461-A75D-3F54E449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AA211-F337-4C5C-82A9-907075A0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3532E-FD80-4ED2-B00F-1172568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0A6E0-2AA0-41EE-AF20-53B3CEF0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CB05E-7D89-4340-A3CD-95445536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FC24D-F9F2-4EEA-AEBA-924CD644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F4E7F-38C6-4166-A5F3-B9ED43C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71453-A8EF-41B2-AF43-F23368E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5AD63-EC37-42BD-8E0D-9074436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D6438-333F-41B4-A22F-6402876B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3B13F-0E5C-4286-A98A-26BD8120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F06B9-27A1-48CC-952B-A85076E4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0498F-C4B9-4A4F-BEB6-F9E599D6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AA4AB-F719-4C4A-A3A2-D92EEBA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7ACA9-C34D-476E-A57D-02586237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1CD69-3EB0-4E54-BA4D-0982DDF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822F3-4C7E-4991-AF14-DB6E233D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EAFD2-4C88-483A-BF42-3F89344C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10976-85EE-42D7-B788-FBC0961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0CB-FB7E-48A6-A386-D3ED05D5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2794B-D2B6-4D6C-B32F-A9AD63E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7980A-2534-4B04-964C-46C3DA6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00C7C-F41A-4F7C-8FCD-05855FBD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17871-22E0-46F6-B218-ED44950D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30B8D-2901-4089-844E-84D67D41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8B690-0C3F-42D4-92C1-834F2771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5DB41-3C4B-48AB-A722-05CDB246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A8EFA-C31A-4E5D-A539-4F37A9B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19282-6681-4F5B-B068-3BF18925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CD8D6-CF0D-452D-A3C2-B18D1F3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79E56-9863-4C73-9567-BA462B18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E0AFB-C31A-482D-899F-0B91ADE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EF058-81A5-42A4-A032-835F878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443FB-BC2D-4394-9377-32ED61E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D8B5E-17DF-4AAC-8822-18681A1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C74DD-14FC-407B-BF04-9F6F5B19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8D455-E908-47F8-84A0-1519C295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DA845-235D-4CB2-AF36-45ABFDC9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43F93-AEC6-4AC2-BABE-0EFF1D7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016FE-87B0-4557-82A2-8AAE7D0C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D1C01-1A05-4C75-B57F-5368BF2B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1792F-98C6-4CDF-8DAC-4ECBC1D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1C647-BC24-4AF3-9F8B-625C3769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E8FB7-3843-4C1E-BDCF-B89F3C6C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0C3F1-56CF-4C2C-AA19-85B86530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898F2-60DD-4371-9197-8FE6E9E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23A78-C81C-42E5-987A-16619545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51ADC-F55A-462C-ACE3-9DDF652E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42D53-A05D-4308-A5C1-178BBA99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A6963-4206-43F3-8113-AFCA5EC7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734B0-7CBE-4A6D-A8F0-D87CF007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81F03-7E6C-41D9-9378-26DDC4CB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D6B94-B876-4124-9F87-86AE9C61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18A2E-0ADB-4333-9C06-606CFBBF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CC0D6-5CDD-4BEB-9E09-EEC21479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50350-64CE-4BDD-9D5D-4AE4947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08A0B-0AEE-4650-9290-D9B830C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0E84C6-3AAB-4540-A8E9-8E4E739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80FF6-399C-43C0-9712-510AD033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323CF-3DA3-47FD-8E94-4A38FBCE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B42A3-9F2B-4916-8E66-4BBD15BC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79609-145F-44F6-9F1A-F23B592F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BD613-DF6E-40D2-B227-A9BEF917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C37C2-31CA-4A8B-8FD9-F0CD33B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9C2A0-BF5F-47D1-9318-332D6C8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B5289-D51A-4FDB-BA04-A81FD6E6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9D2EF-51D9-489B-8BAD-E73C2449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A3D23-ECDF-49BF-B780-EFFC1A3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3E635-0430-42E9-8AE5-520D55A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D5816-56F9-4A87-8917-94ABCC3B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8F8663-80AF-40DE-8678-076ACD50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6E619-1DE4-47C4-9609-D60DBD8A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9F6D3-9014-44AE-A77A-B1CEB76F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130F7-8580-46F4-96DD-7C21A72D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3F98A-3A2C-4F8C-A8FD-F9123CD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32B41A-704E-407D-B1F6-97AD1D89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A358F-0637-418B-8E39-E9AAD29F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D2B45-123E-4CCE-A4EB-33A86EB1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56FAA-C920-49EE-97AA-47B8D43E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934E6-397E-4A89-82A8-0E95E7B5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BE6421-5339-4C34-AA7C-F9FAB75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B80D6-0E77-4E64-81D4-84349CE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503B7-C368-42BA-946A-8B3AAB51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9E411-F046-4122-856E-5A92FA74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3F410-8F47-4CE1-9B7E-FB4BBC8F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F4402-B5F6-4609-89F5-DB046EC6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3C6A4-35C3-4385-B954-91D8549D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2F381-5164-4DC1-BF99-C687E15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E19FF0-D7AE-4BD5-A6E8-C2A32860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109FF-CF56-4AF2-AAE7-2EA59B78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70A25-3652-4D45-801B-212C3808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855FE-1B10-431D-8128-5E07384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45B5E6-5759-4655-951E-B2C7B74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85860-3572-4DCB-BB45-EF258573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873F9-713D-4333-9044-0B9D9CAC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E62E4-DBE1-4C89-BD6F-EC2C0320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471B2-9758-472F-B2BE-17B18617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F63998-ECB6-476D-84C4-B7AAD72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FF4A2-DFDB-4631-A7B3-005813F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591E8-D593-48BD-8EE8-2A8C9657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CF741E-B2AA-46C3-990D-FF4C18BF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617305-7DA7-405F-A05B-D39F9F47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D966BA-8B1E-4791-83F9-DED6EDEE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7202E8-965A-4E59-B0D9-9765ED1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FDD2F-7F1E-4C92-80C4-2C44FC28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1CA6A3-EEB0-44F7-A61A-F3FF8911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270274-1559-4ED8-A296-E6409A8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36356-8C90-4DAC-AE6F-B61F8C80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F2180-4846-4B57-8009-8C18028F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CA8-B474-4501-9375-1972653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BC90-17CE-4864-95AA-781F3ACB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DABE-2178-4BBD-B909-72503C4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E02D-6199-47DB-82A0-B4E664A8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947-B103-4F38-9BCF-597E6B25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CA8F-120E-49EE-8A4A-633AE0D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047B-C254-4189-A720-0E59DCF3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AEFF-76E5-4794-BDD9-DE71D99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F7BC-B8C6-42B6-8959-1499848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3C29-213D-4925-AC0C-F760626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9027-0B9F-4C36-958C-316A136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A0BA-3724-4E0B-87E4-8A909715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2C5F-20E0-4B2B-80CA-DCFD426C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7EB0-3801-4EE5-91EC-5E1A592D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8039-DE01-422F-B06E-C2DF9108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0CA-0860-456C-AA75-AE835A5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5AB9-4473-4BA4-88C0-7427F6DA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7628-AA38-4CF6-9106-72D5EF0B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ED68-CA2F-4FA8-BDFE-66F63C4F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CC24-B5EB-4A25-9234-249EBB1E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F5D5-D938-40C8-95E9-22819EEA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5BA2-0C03-436E-A4CF-B659EDD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9F33-D814-43FB-9D69-3FE4779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FBAA-7050-4C9D-B8FF-BF90D21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8954-EED1-4F36-AD48-FA2815A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9D95-B788-4237-AED7-F69651FE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455-4DBC-4B36-8C72-EA610F4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804C-A9D6-43AC-84C7-6259713A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6BF3-9BC1-461A-8B42-DB871A8E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2D49-7560-4910-9EE5-50B5D96D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33148-6F13-4695-9365-DA78CB5B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012A-7F6F-4865-94A0-B5918E36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1016-DA76-4C2A-A04B-E3F82DF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A474-7D40-4DDC-B9F2-CF64C790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01068-FA2D-42CA-BFE8-E8F084A0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78ED5-DA24-489D-84D0-E6306A3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833C-C373-47E0-8B00-3A21D78A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B0F-7B71-4E1D-A53E-F2EFD5D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F1E5-4F67-4B10-A90F-C2F8BEC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29C5-E2F8-4519-AD53-845A1593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2853-B78E-4C20-843B-A0C18B79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9D7E-9523-45DA-87A6-C3921265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B947-B7F7-4285-A405-53614C74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66A5-E8C7-475E-AE95-C4C852B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F3FF5-D6DA-44FD-9EC9-B9A4A542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3E2C5-A7E8-43AB-8713-22DF67D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1202-BDA0-4784-B330-DB8DAE4D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747F-B2EF-477E-87C1-9AFFB00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8D3-A664-40F4-A516-95D63A0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3D0A-4733-4B3C-B7B6-D18E066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9FF4-4FA7-4B81-B286-DEB4C43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F27CA-D8DF-40A6-AF3E-A94842F5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F7C2-8448-4091-8783-AE5F56FB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C899-D4FC-437C-AA55-656766DF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7F68-D74C-4BF9-9C5C-B98AE1D1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8F40-DFE4-459B-8798-D999FF13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8A6CD-1B27-4B81-BF1D-1536FCCA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B549A-EC34-47F9-8BA0-AA15793F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692E-EDBD-4C1C-9B9F-0FCF8E6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457-597D-4B6C-AEF9-297AE18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EC5FD-F5B3-4AD6-8375-573BB08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831FD-DE88-4AB1-9B01-535A81C9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F7B6-6B23-46E2-9C24-8C89553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1F8A7-D2C9-4E20-AD79-FB6AA30B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D1D0-A138-4C17-A914-0727FF24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BCA1F-8FD4-4F14-9B92-A51AE588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DB17E-CAB5-4858-B98A-666F05B8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264D1-3CF3-432E-A914-36D34F7E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9EA9-2F86-4832-A71F-24500053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763D-CE2D-48C6-8770-583354DF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5B86-5DDD-4976-83DD-280CFD6AD9E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4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6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7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8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9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0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1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2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3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2DD7-9E84-46C9-93B0-7E8E867B20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3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9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0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1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2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3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4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5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6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7B6-D879-4FF3-98F5-913CF38D9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90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2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3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4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5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6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7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8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9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472-B6D8-4B93-8395-782003325A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643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5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6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7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8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9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0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1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2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1171-50CD-4A6A-8E94-BEB62AD3D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696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8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9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0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1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2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3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4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5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Num" idx="3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976-29C8-4106-8363-543B8C51B7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749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51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75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55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756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7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8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9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0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6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65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766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7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8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9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0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7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78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779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80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81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82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dt" idx="3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ftr" idx="3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Num" idx="3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0C5-720D-4981-8D47-B2000FB0F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826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8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82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32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833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4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5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6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7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3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3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42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843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4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5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6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7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4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4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55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856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7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8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9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dt" idx="4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ftr" idx="4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sldNum" idx="4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B53A-159B-4EF9-8AEA-14E5078998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03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5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90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0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09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910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1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2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3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4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1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19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920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1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2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3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4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2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32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933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4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5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6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dt" idx="4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ftr" idx="4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sldNum" idx="4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9B78-5880-4A5E-ABDF-C8CC45803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80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2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98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8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86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987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88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89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0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1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9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9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96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997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8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9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0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1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0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0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09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010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11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12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13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dt" idx="4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ftr" idx="4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sldNum" idx="4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C4FB-4E24-46E7-865A-10EC414A7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5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05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9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06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6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63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064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5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6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7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8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6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7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73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074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5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6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7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8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7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8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86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087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8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9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90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dt" idx="4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ftr" idx="5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5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7DA-8361-4DE7-A4A5-4EE10B7EC8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5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134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6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1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40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141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2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3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4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5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50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151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2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3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4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5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63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164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5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6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7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168" name="PlaceHolder 1"/>
          <p:cNvSpPr>
            <a:spLocks noGrp="1"/>
          </p:cNvSpPr>
          <p:nvPr>
            <p:ph type="dt" idx="5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ftr" idx="5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5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83A5-FFA6-49A4-9621-115EE32C15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1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13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21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1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1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17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218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19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0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1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2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2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2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27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228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9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0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1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2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3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3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40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241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42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43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44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245" name="PlaceHolder 1"/>
          <p:cNvSpPr>
            <a:spLocks noGrp="1"/>
          </p:cNvSpPr>
          <p:nvPr>
            <p:ph type="dt" idx="5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ftr" idx="5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sldNum" idx="5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1FD-6DE7-4004-86CB-151861D393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5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6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7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88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28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90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29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9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94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295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6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7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8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9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0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0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04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305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6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7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8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9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1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1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17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318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9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20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21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322" name="PlaceHolder 1"/>
          <p:cNvSpPr>
            <a:spLocks noGrp="1"/>
          </p:cNvSpPr>
          <p:nvPr>
            <p:ph type="dt" idx="5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ftr" idx="5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sldNum" idx="6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1033-716A-4CB4-9C32-864D3E05A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365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7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36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6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71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372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3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4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5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6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7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7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81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382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3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4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5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6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8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8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94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395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6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7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8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399" name="PlaceHolder 1"/>
          <p:cNvSpPr>
            <a:spLocks noGrp="1"/>
          </p:cNvSpPr>
          <p:nvPr>
            <p:ph type="dt" idx="6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ftr" idx="6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sldNum" idx="6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7535-2352-41D5-8BE7-3FF60182C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9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0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42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4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44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4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4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48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449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0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1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2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3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5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5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58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459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0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1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2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3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6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6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71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472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3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4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5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476" name="PlaceHolder 1"/>
          <p:cNvSpPr>
            <a:spLocks noGrp="1"/>
          </p:cNvSpPr>
          <p:nvPr>
            <p:ph type="dt" idx="6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ftr" idx="6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sldNum" idx="6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83D1-2AF0-4B9B-B32F-5A50B8AAA6BF}" type="slidenum"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7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08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9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0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1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2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7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18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9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0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1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0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31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2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3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4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72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Created by Howard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B2A0-6C17-4F3D-B6AC-69DDC5F4603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219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1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2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3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4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5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6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7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8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B235-530D-4ACC-9EA3-78661611A3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272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4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5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6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7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8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9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0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1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372-FA0A-47AD-9D10-E587B83A23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325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7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8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9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0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1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2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3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4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4E9A-C557-479F-B9BE-17CBF085F6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378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0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1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2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3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4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5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6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7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6A94-F13A-4C68-9148-620ADAE554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3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3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4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5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6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7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8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9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0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8417-8D95-4F5F-A666-464B74019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Created by Howard Price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6" name="Rectangle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D8D9-DE0A-4A3D-92D4-A8D18EA8FFA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Arial"/>
              </a:rPr>
              <a:t>Verb Tenses</a:t>
            </a:r>
            <a:endParaRPr b="0" lang="en-US" sz="5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subTitle"/>
          </p:nvPr>
        </p:nvSpPr>
        <p:spPr>
          <a:xfrm>
            <a:off x="685440" y="43434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</a:rPr>
              <a:t>To Think About Verb Tenses, Use a Time Line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55B-635E-4A2F-B96C-D0B1520596A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the near past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30" name="Text Box 20"/>
          <p:cNvSpPr/>
          <p:nvPr/>
        </p:nvSpPr>
        <p:spPr>
          <a:xfrm>
            <a:off x="1295280" y="4343400"/>
            <a:ext cx="723924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oday, I have been baking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31" name="Group 31"/>
          <p:cNvGrpSpPr/>
          <p:nvPr/>
        </p:nvGrpSpPr>
        <p:grpSpPr>
          <a:xfrm>
            <a:off x="457200" y="1600200"/>
            <a:ext cx="8458200" cy="2438280"/>
            <a:chOff x="457200" y="1600200"/>
            <a:chExt cx="8458200" cy="2438280"/>
          </a:xfrm>
        </p:grpSpPr>
        <p:grpSp>
          <p:nvGrpSpPr>
            <p:cNvPr id="1632" name="Group 21"/>
            <p:cNvGrpSpPr/>
            <p:nvPr/>
          </p:nvGrpSpPr>
          <p:grpSpPr>
            <a:xfrm>
              <a:off x="457200" y="1600200"/>
              <a:ext cx="8458200" cy="990720"/>
              <a:chOff x="457200" y="1600200"/>
              <a:chExt cx="8458200" cy="990720"/>
            </a:xfrm>
          </p:grpSpPr>
          <p:pic>
            <p:nvPicPr>
              <p:cNvPr id="1633" name="Picture 22" descr="F:\PFiles\MSOffice\Clipart\standard\stddir2\dd01422_.wmf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1600200"/>
                <a:ext cx="4172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4" name="Rectangle 23"/>
              <p:cNvSpPr/>
              <p:nvPr/>
            </p:nvSpPr>
            <p:spPr>
              <a:xfrm>
                <a:off x="3352680" y="2133720"/>
                <a:ext cx="2971800" cy="30456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5" name="Text Box 24"/>
              <p:cNvSpPr/>
              <p:nvPr/>
            </p:nvSpPr>
            <p:spPr>
              <a:xfrm>
                <a:off x="4038480" y="2133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resen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6" name="AutoShape 25"/>
              <p:cNvSpPr/>
              <p:nvPr/>
            </p:nvSpPr>
            <p:spPr>
              <a:xfrm>
                <a:off x="6324480" y="1981080"/>
                <a:ext cx="2590920" cy="609840"/>
              </a:xfrm>
              <a:prstGeom prst="rightArrow">
                <a:avLst>
                  <a:gd name="adj1" fmla="val 50000"/>
                  <a:gd name="adj2" fmla="val 106213"/>
                </a:avLst>
              </a:prstGeom>
              <a:solidFill>
                <a:srgbClr val="66ff66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7" name="Text Box 26"/>
              <p:cNvSpPr/>
              <p:nvPr/>
            </p:nvSpPr>
            <p:spPr>
              <a:xfrm>
                <a:off x="6705720" y="213372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Future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8" name="AutoShape 27"/>
              <p:cNvSpPr/>
              <p:nvPr/>
            </p:nvSpPr>
            <p:spPr>
              <a:xfrm>
                <a:off x="457200" y="1981080"/>
                <a:ext cx="2895480" cy="609840"/>
              </a:xfrm>
              <a:prstGeom prst="leftArrow">
                <a:avLst>
                  <a:gd name="adj1" fmla="val 50000"/>
                  <a:gd name="adj2" fmla="val 11869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9" name="Text Box 28"/>
              <p:cNvSpPr/>
              <p:nvPr/>
            </p:nvSpPr>
            <p:spPr>
              <a:xfrm>
                <a:off x="2057400" y="21337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640" name="Line 29"/>
            <p:cNvSpPr/>
            <p:nvPr/>
          </p:nvSpPr>
          <p:spPr>
            <a:xfrm>
              <a:off x="3352680" y="2438280"/>
              <a:ext cx="0" cy="16002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41" name="Line 30"/>
            <p:cNvSpPr/>
            <p:nvPr/>
          </p:nvSpPr>
          <p:spPr>
            <a:xfrm>
              <a:off x="6324480" y="2438280"/>
              <a:ext cx="0" cy="16002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42" name="Text Box 32"/>
          <p:cNvSpPr/>
          <p:nvPr/>
        </p:nvSpPr>
        <p:spPr>
          <a:xfrm>
            <a:off x="1219320" y="4952880"/>
            <a:ext cx="73911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is action in the presen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3" name="Text Box 33"/>
          <p:cNvSpPr/>
          <p:nvPr/>
        </p:nvSpPr>
        <p:spPr>
          <a:xfrm>
            <a:off x="3352680" y="2666880"/>
            <a:ext cx="99072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have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1523880" y="5562720"/>
            <a:ext cx="678204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is action in the pas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5" name="Text Box 35"/>
          <p:cNvSpPr/>
          <p:nvPr/>
        </p:nvSpPr>
        <p:spPr>
          <a:xfrm>
            <a:off x="2362320" y="3124080"/>
            <a:ext cx="99036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6" name="Text Box 36"/>
          <p:cNvSpPr/>
          <p:nvPr/>
        </p:nvSpPr>
        <p:spPr>
          <a:xfrm>
            <a:off x="685800" y="6172200"/>
            <a:ext cx="807552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Notice that “</a:t>
            </a: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” is now in the past and in the presen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7" name="Text Box 38"/>
          <p:cNvSpPr/>
          <p:nvPr/>
        </p:nvSpPr>
        <p:spPr>
          <a:xfrm>
            <a:off x="2743200" y="3581280"/>
            <a:ext cx="12193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D4F-6AFE-4478-ADE1-E30E6929301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the past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50" name="Text Box 11"/>
          <p:cNvSpPr/>
          <p:nvPr/>
        </p:nvSpPr>
        <p:spPr>
          <a:xfrm>
            <a:off x="1295280" y="4343400"/>
            <a:ext cx="723924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Yesterday, I was baking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51" name="Group 15"/>
          <p:cNvGrpSpPr/>
          <p:nvPr/>
        </p:nvGrpSpPr>
        <p:grpSpPr>
          <a:xfrm>
            <a:off x="457200" y="1600200"/>
            <a:ext cx="8458200" cy="2057400"/>
            <a:chOff x="457200" y="1600200"/>
            <a:chExt cx="8458200" cy="2057400"/>
          </a:xfrm>
        </p:grpSpPr>
        <p:grpSp>
          <p:nvGrpSpPr>
            <p:cNvPr id="1652" name="Group 3"/>
            <p:cNvGrpSpPr/>
            <p:nvPr/>
          </p:nvGrpSpPr>
          <p:grpSpPr>
            <a:xfrm>
              <a:off x="457200" y="1600200"/>
              <a:ext cx="8458200" cy="990720"/>
              <a:chOff x="457200" y="1600200"/>
              <a:chExt cx="8458200" cy="990720"/>
            </a:xfrm>
          </p:grpSpPr>
          <p:pic>
            <p:nvPicPr>
              <p:cNvPr id="1653" name="Picture 4" descr="F:\PFiles\MSOffice\Clipart\standard\stddir2\dd01422_.wmf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1600200"/>
                <a:ext cx="4172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4" name="Rectangle 5"/>
              <p:cNvSpPr/>
              <p:nvPr/>
            </p:nvSpPr>
            <p:spPr>
              <a:xfrm>
                <a:off x="3352680" y="2133720"/>
                <a:ext cx="2971800" cy="30456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5" name="Text Box 6"/>
              <p:cNvSpPr/>
              <p:nvPr/>
            </p:nvSpPr>
            <p:spPr>
              <a:xfrm>
                <a:off x="4038480" y="2133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resen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6" name="AutoShape 7"/>
              <p:cNvSpPr/>
              <p:nvPr/>
            </p:nvSpPr>
            <p:spPr>
              <a:xfrm>
                <a:off x="6324480" y="1981080"/>
                <a:ext cx="2590920" cy="609840"/>
              </a:xfrm>
              <a:prstGeom prst="rightArrow">
                <a:avLst>
                  <a:gd name="adj1" fmla="val 50000"/>
                  <a:gd name="adj2" fmla="val 106213"/>
                </a:avLst>
              </a:prstGeom>
              <a:solidFill>
                <a:srgbClr val="66ff66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7" name="Text Box 8"/>
              <p:cNvSpPr/>
              <p:nvPr/>
            </p:nvSpPr>
            <p:spPr>
              <a:xfrm>
                <a:off x="6705720" y="213372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Future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8" name="AutoShape 9"/>
              <p:cNvSpPr/>
              <p:nvPr/>
            </p:nvSpPr>
            <p:spPr>
              <a:xfrm>
                <a:off x="457200" y="1981080"/>
                <a:ext cx="2895480" cy="609840"/>
              </a:xfrm>
              <a:prstGeom prst="leftArrow">
                <a:avLst>
                  <a:gd name="adj1" fmla="val 50000"/>
                  <a:gd name="adj2" fmla="val 11869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9" name="Text Box 10"/>
              <p:cNvSpPr/>
              <p:nvPr/>
            </p:nvSpPr>
            <p:spPr>
              <a:xfrm>
                <a:off x="2057400" y="21337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grpSp>
          <p:nvGrpSpPr>
            <p:cNvPr id="1660" name="Group 14"/>
            <p:cNvGrpSpPr/>
            <p:nvPr/>
          </p:nvGrpSpPr>
          <p:grpSpPr>
            <a:xfrm>
              <a:off x="3352680" y="2438280"/>
              <a:ext cx="2971800" cy="1219320"/>
              <a:chOff x="3352680" y="2438280"/>
              <a:chExt cx="2971800" cy="1219320"/>
            </a:xfrm>
          </p:grpSpPr>
          <p:sp>
            <p:nvSpPr>
              <p:cNvPr id="1661" name="Line 12"/>
              <p:cNvSpPr/>
              <p:nvPr/>
            </p:nvSpPr>
            <p:spPr>
              <a:xfrm>
                <a:off x="3352680" y="2438280"/>
                <a:ext cx="0" cy="121932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62" name="Line 13"/>
              <p:cNvSpPr/>
              <p:nvPr/>
            </p:nvSpPr>
            <p:spPr>
              <a:xfrm>
                <a:off x="6324480" y="2438280"/>
                <a:ext cx="0" cy="121932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</p:grpSp>
      <p:sp>
        <p:nvSpPr>
          <p:cNvPr id="1663" name="Text Box 17"/>
          <p:cNvSpPr/>
          <p:nvPr/>
        </p:nvSpPr>
        <p:spPr>
          <a:xfrm>
            <a:off x="2055960" y="5108400"/>
            <a:ext cx="54864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is action in the past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64" name="Group 21"/>
          <p:cNvGrpSpPr/>
          <p:nvPr/>
        </p:nvGrpSpPr>
        <p:grpSpPr>
          <a:xfrm>
            <a:off x="1143000" y="2971800"/>
            <a:ext cx="2057400" cy="459720"/>
            <a:chOff x="1143000" y="2971800"/>
            <a:chExt cx="2057400" cy="459720"/>
          </a:xfrm>
        </p:grpSpPr>
        <p:sp>
          <p:nvSpPr>
            <p:cNvPr id="1665" name="Text Box 19"/>
            <p:cNvSpPr/>
            <p:nvPr/>
          </p:nvSpPr>
          <p:spPr>
            <a:xfrm>
              <a:off x="1143000" y="2971800"/>
              <a:ext cx="83808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was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66" name="Text Box 20"/>
            <p:cNvSpPr/>
            <p:nvPr/>
          </p:nvSpPr>
          <p:spPr>
            <a:xfrm>
              <a:off x="1981080" y="2971800"/>
              <a:ext cx="121932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FD9B-9711-4803-8B96-2C5BF880DF1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further into the past.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69" name="Text Box 12"/>
          <p:cNvSpPr/>
          <p:nvPr/>
        </p:nvSpPr>
        <p:spPr>
          <a:xfrm>
            <a:off x="990720" y="4191120"/>
            <a:ext cx="75438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e day before yesterday, I had been baking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70" name="Group 16"/>
          <p:cNvGrpSpPr/>
          <p:nvPr/>
        </p:nvGrpSpPr>
        <p:grpSpPr>
          <a:xfrm>
            <a:off x="457200" y="1447920"/>
            <a:ext cx="8458200" cy="2209680"/>
            <a:chOff x="457200" y="1447920"/>
            <a:chExt cx="8458200" cy="2209680"/>
          </a:xfrm>
        </p:grpSpPr>
        <p:grpSp>
          <p:nvGrpSpPr>
            <p:cNvPr id="1671" name="Group 3"/>
            <p:cNvGrpSpPr/>
            <p:nvPr/>
          </p:nvGrpSpPr>
          <p:grpSpPr>
            <a:xfrm>
              <a:off x="457200" y="1447920"/>
              <a:ext cx="8458200" cy="990000"/>
              <a:chOff x="457200" y="1447920"/>
              <a:chExt cx="8458200" cy="990000"/>
            </a:xfrm>
          </p:grpSpPr>
          <p:pic>
            <p:nvPicPr>
              <p:cNvPr id="1672" name="Picture 4" descr="F:\PFiles\MSOffice\Clipart\standard\stddir2\dd01422_.wmf"/>
              <p:cNvPicPr/>
              <p:nvPr/>
            </p:nvPicPr>
            <p:blipFill>
              <a:blip r:embed="rId1"/>
              <a:stretch/>
            </p:blipFill>
            <p:spPr>
              <a:xfrm>
                <a:off x="6019920" y="1447920"/>
                <a:ext cx="41724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3" name="Rectangle 5"/>
              <p:cNvSpPr/>
              <p:nvPr/>
            </p:nvSpPr>
            <p:spPr>
              <a:xfrm>
                <a:off x="5410080" y="1981080"/>
                <a:ext cx="1600200" cy="30420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4" name="Text Box 6"/>
              <p:cNvSpPr/>
              <p:nvPr/>
            </p:nvSpPr>
            <p:spPr>
              <a:xfrm>
                <a:off x="5410080" y="19810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resen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5" name="AutoShape 7"/>
              <p:cNvSpPr/>
              <p:nvPr/>
            </p:nvSpPr>
            <p:spPr>
              <a:xfrm>
                <a:off x="7010280" y="1828440"/>
                <a:ext cx="1905120" cy="609480"/>
              </a:xfrm>
              <a:prstGeom prst="rightArrow">
                <a:avLst>
                  <a:gd name="adj1" fmla="val 50000"/>
                  <a:gd name="adj2" fmla="val 78145"/>
                </a:avLst>
              </a:prstGeom>
              <a:solidFill>
                <a:srgbClr val="66ff66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6" name="Text Box 8"/>
              <p:cNvSpPr/>
              <p:nvPr/>
            </p:nvSpPr>
            <p:spPr>
              <a:xfrm>
                <a:off x="7467480" y="198108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Future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7" name="AutoShape 9"/>
              <p:cNvSpPr/>
              <p:nvPr/>
            </p:nvSpPr>
            <p:spPr>
              <a:xfrm>
                <a:off x="457200" y="1828440"/>
                <a:ext cx="4952880" cy="609480"/>
              </a:xfrm>
              <a:prstGeom prst="leftArrow">
                <a:avLst>
                  <a:gd name="adj1" fmla="val 50000"/>
                  <a:gd name="adj2" fmla="val 203160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8" name="Text Box 10"/>
              <p:cNvSpPr/>
              <p:nvPr/>
            </p:nvSpPr>
            <p:spPr>
              <a:xfrm>
                <a:off x="4419720" y="19810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9" name="Text Box 11"/>
              <p:cNvSpPr/>
              <p:nvPr/>
            </p:nvSpPr>
            <p:spPr>
              <a:xfrm>
                <a:off x="2133720" y="1981080"/>
                <a:ext cx="127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/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680" name="Line 13"/>
            <p:cNvSpPr/>
            <p:nvPr/>
          </p:nvSpPr>
          <p:spPr>
            <a:xfrm>
              <a:off x="5410080" y="2286000"/>
              <a:ext cx="0" cy="13716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81" name="Line 14"/>
            <p:cNvSpPr/>
            <p:nvPr/>
          </p:nvSpPr>
          <p:spPr>
            <a:xfrm>
              <a:off x="7010280" y="2286000"/>
              <a:ext cx="0" cy="13716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82" name="Line 15"/>
            <p:cNvSpPr/>
            <p:nvPr/>
          </p:nvSpPr>
          <p:spPr>
            <a:xfrm>
              <a:off x="3657600" y="2286000"/>
              <a:ext cx="0" cy="13716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83" name="Text Box 17"/>
          <p:cNvSpPr/>
          <p:nvPr/>
        </p:nvSpPr>
        <p:spPr>
          <a:xfrm>
            <a:off x="2514600" y="4876920"/>
            <a:ext cx="48006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e action as past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4" name="Text Box 18"/>
          <p:cNvSpPr/>
          <p:nvPr/>
        </p:nvSpPr>
        <p:spPr>
          <a:xfrm>
            <a:off x="3657600" y="2438280"/>
            <a:ext cx="83808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5" name="Text Box 19"/>
          <p:cNvSpPr/>
          <p:nvPr/>
        </p:nvSpPr>
        <p:spPr>
          <a:xfrm>
            <a:off x="1523880" y="5562720"/>
            <a:ext cx="66294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e action further into the past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6" name="Text Box 20"/>
          <p:cNvSpPr/>
          <p:nvPr/>
        </p:nvSpPr>
        <p:spPr>
          <a:xfrm>
            <a:off x="2590920" y="2895480"/>
            <a:ext cx="106668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7" name="Text Box 22"/>
          <p:cNvSpPr/>
          <p:nvPr/>
        </p:nvSpPr>
        <p:spPr>
          <a:xfrm>
            <a:off x="3048120" y="3352680"/>
            <a:ext cx="121896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8" name="Text Box 24"/>
          <p:cNvSpPr/>
          <p:nvPr/>
        </p:nvSpPr>
        <p:spPr>
          <a:xfrm>
            <a:off x="3886200" y="1523880"/>
            <a:ext cx="1219320" cy="3682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yesterday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9" name="Text Box 25"/>
          <p:cNvSpPr/>
          <p:nvPr/>
        </p:nvSpPr>
        <p:spPr>
          <a:xfrm>
            <a:off x="1828800" y="1523880"/>
            <a:ext cx="1371600" cy="3682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day befor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0" name="Text Box 26"/>
          <p:cNvSpPr/>
          <p:nvPr/>
        </p:nvSpPr>
        <p:spPr>
          <a:xfrm>
            <a:off x="990720" y="6172200"/>
            <a:ext cx="75438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Notice “baking” is in the past and further in the pas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1" name="Rectangle 27"/>
          <p:cNvSpPr/>
          <p:nvPr/>
        </p:nvSpPr>
        <p:spPr>
          <a:xfrm flipV="1">
            <a:off x="1447920" y="1446840"/>
            <a:ext cx="3733560" cy="251460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C773-5FCB-4E12-81D9-27E16EDA7A9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Compare Patterns.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694" name="Group 22"/>
          <p:cNvGrpSpPr/>
          <p:nvPr/>
        </p:nvGrpSpPr>
        <p:grpSpPr>
          <a:xfrm>
            <a:off x="228600" y="4191120"/>
            <a:ext cx="8458200" cy="2364480"/>
            <a:chOff x="228600" y="4191120"/>
            <a:chExt cx="8458200" cy="2364480"/>
          </a:xfrm>
        </p:grpSpPr>
        <p:grpSp>
          <p:nvGrpSpPr>
            <p:cNvPr id="1695" name="Group 3"/>
            <p:cNvGrpSpPr/>
            <p:nvPr/>
          </p:nvGrpSpPr>
          <p:grpSpPr>
            <a:xfrm>
              <a:off x="228600" y="4191120"/>
              <a:ext cx="8458200" cy="2209680"/>
              <a:chOff x="228600" y="4191120"/>
              <a:chExt cx="8458200" cy="2209680"/>
            </a:xfrm>
          </p:grpSpPr>
          <p:grpSp>
            <p:nvGrpSpPr>
              <p:cNvPr id="1696" name="Group 4"/>
              <p:cNvGrpSpPr/>
              <p:nvPr/>
            </p:nvGrpSpPr>
            <p:grpSpPr>
              <a:xfrm>
                <a:off x="228600" y="4191120"/>
                <a:ext cx="8458200" cy="990000"/>
                <a:chOff x="228600" y="4191120"/>
                <a:chExt cx="8458200" cy="990000"/>
              </a:xfrm>
            </p:grpSpPr>
            <p:pic>
              <p:nvPicPr>
                <p:cNvPr id="1697" name="Picture 5" descr="F:\PFiles\MSOffice\Clipart\standard\stddir2\dd01422_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91320" y="4191120"/>
                  <a:ext cx="41724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8" name="Rectangle 6"/>
                <p:cNvSpPr/>
                <p:nvPr/>
              </p:nvSpPr>
              <p:spPr>
                <a:xfrm>
                  <a:off x="5181480" y="4724280"/>
                  <a:ext cx="1600200" cy="304200"/>
                </a:xfrm>
                <a:prstGeom prst="rect">
                  <a:avLst/>
                </a:prstGeom>
                <a:solidFill>
                  <a:srgbClr val="00ffff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699" name="Text Box 7"/>
                <p:cNvSpPr/>
                <p:nvPr/>
              </p:nvSpPr>
              <p:spPr>
                <a:xfrm>
                  <a:off x="5181480" y="4724280"/>
                  <a:ext cx="160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resen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0" name="AutoShape 8"/>
                <p:cNvSpPr/>
                <p:nvPr/>
              </p:nvSpPr>
              <p:spPr>
                <a:xfrm>
                  <a:off x="6781680" y="4571640"/>
                  <a:ext cx="1905120" cy="609480"/>
                </a:xfrm>
                <a:prstGeom prst="rightArrow">
                  <a:avLst>
                    <a:gd name="adj1" fmla="val 50000"/>
                    <a:gd name="adj2" fmla="val 78145"/>
                  </a:avLst>
                </a:prstGeom>
                <a:solidFill>
                  <a:srgbClr val="66ff66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1" name="Text Box 9"/>
                <p:cNvSpPr/>
                <p:nvPr/>
              </p:nvSpPr>
              <p:spPr>
                <a:xfrm>
                  <a:off x="7238880" y="472428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Future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2" name="AutoShape 10"/>
                <p:cNvSpPr/>
                <p:nvPr/>
              </p:nvSpPr>
              <p:spPr>
                <a:xfrm>
                  <a:off x="228600" y="4571640"/>
                  <a:ext cx="4952880" cy="609480"/>
                </a:xfrm>
                <a:prstGeom prst="leftArrow">
                  <a:avLst>
                    <a:gd name="adj1" fmla="val 50000"/>
                    <a:gd name="adj2" fmla="val 203160"/>
                  </a:avLst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3" name="Text Box 11"/>
                <p:cNvSpPr/>
                <p:nvPr/>
              </p:nvSpPr>
              <p:spPr>
                <a:xfrm>
                  <a:off x="4191120" y="4724280"/>
                  <a:ext cx="8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as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4" name="Text Box 12"/>
                <p:cNvSpPr/>
                <p:nvPr/>
              </p:nvSpPr>
              <p:spPr>
                <a:xfrm>
                  <a:off x="1905120" y="4724280"/>
                  <a:ext cx="1272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ast/Pas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5" name="Line 13"/>
              <p:cNvSpPr/>
              <p:nvPr/>
            </p:nvSpPr>
            <p:spPr>
              <a:xfrm>
                <a:off x="5181480" y="5029200"/>
                <a:ext cx="0" cy="13716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06" name="Line 14"/>
              <p:cNvSpPr/>
              <p:nvPr/>
            </p:nvSpPr>
            <p:spPr>
              <a:xfrm>
                <a:off x="6781680" y="5029200"/>
                <a:ext cx="0" cy="13716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07" name="Line 15"/>
              <p:cNvSpPr/>
              <p:nvPr/>
            </p:nvSpPr>
            <p:spPr>
              <a:xfrm>
                <a:off x="3429000" y="5029200"/>
                <a:ext cx="0" cy="13716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708" name="Text Box 16"/>
            <p:cNvSpPr/>
            <p:nvPr/>
          </p:nvSpPr>
          <p:spPr>
            <a:xfrm>
              <a:off x="3429000" y="5181480"/>
              <a:ext cx="83808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had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09" name="Text Box 17"/>
            <p:cNvSpPr/>
            <p:nvPr/>
          </p:nvSpPr>
          <p:spPr>
            <a:xfrm>
              <a:off x="2361960" y="5638680"/>
              <a:ext cx="106704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en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10" name="Text Box 18"/>
            <p:cNvSpPr/>
            <p:nvPr/>
          </p:nvSpPr>
          <p:spPr>
            <a:xfrm>
              <a:off x="2819160" y="6095880"/>
              <a:ext cx="12193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711" name="Group 37"/>
          <p:cNvGrpSpPr/>
          <p:nvPr/>
        </p:nvGrpSpPr>
        <p:grpSpPr>
          <a:xfrm>
            <a:off x="533520" y="1447920"/>
            <a:ext cx="8458200" cy="2440800"/>
            <a:chOff x="533520" y="1447920"/>
            <a:chExt cx="8458200" cy="2440800"/>
          </a:xfrm>
        </p:grpSpPr>
        <p:grpSp>
          <p:nvGrpSpPr>
            <p:cNvPr id="1712" name="Group 23"/>
            <p:cNvGrpSpPr/>
            <p:nvPr/>
          </p:nvGrpSpPr>
          <p:grpSpPr>
            <a:xfrm>
              <a:off x="533520" y="1447920"/>
              <a:ext cx="8458200" cy="2438280"/>
              <a:chOff x="533520" y="1447920"/>
              <a:chExt cx="8458200" cy="2438280"/>
            </a:xfrm>
          </p:grpSpPr>
          <p:grpSp>
            <p:nvGrpSpPr>
              <p:cNvPr id="1713" name="Group 24"/>
              <p:cNvGrpSpPr/>
              <p:nvPr/>
            </p:nvGrpSpPr>
            <p:grpSpPr>
              <a:xfrm>
                <a:off x="533520" y="1447920"/>
                <a:ext cx="8458200" cy="990720"/>
                <a:chOff x="533520" y="1447920"/>
                <a:chExt cx="8458200" cy="990720"/>
              </a:xfrm>
            </p:grpSpPr>
            <p:pic>
              <p:nvPicPr>
                <p:cNvPr id="1714" name="Picture 25" descr="F:\PFiles\MSOffice\Clipart\standard\stddir2\dd01422_.w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24640" y="1447920"/>
                  <a:ext cx="41724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5" name="Rectangle 26"/>
                <p:cNvSpPr/>
                <p:nvPr/>
              </p:nvSpPr>
              <p:spPr>
                <a:xfrm>
                  <a:off x="3429000" y="1981440"/>
                  <a:ext cx="2971800" cy="304560"/>
                </a:xfrm>
                <a:prstGeom prst="rect">
                  <a:avLst/>
                </a:prstGeom>
                <a:solidFill>
                  <a:srgbClr val="00ffff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6" name="Text Box 27"/>
                <p:cNvSpPr/>
                <p:nvPr/>
              </p:nvSpPr>
              <p:spPr>
                <a:xfrm>
                  <a:off x="4114800" y="1981440"/>
                  <a:ext cx="160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resen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7" name="AutoShape 28"/>
                <p:cNvSpPr/>
                <p:nvPr/>
              </p:nvSpPr>
              <p:spPr>
                <a:xfrm>
                  <a:off x="6400800" y="1828800"/>
                  <a:ext cx="2590920" cy="609840"/>
                </a:xfrm>
                <a:prstGeom prst="rightArrow">
                  <a:avLst>
                    <a:gd name="adj1" fmla="val 50000"/>
                    <a:gd name="adj2" fmla="val 106213"/>
                  </a:avLst>
                </a:prstGeom>
                <a:solidFill>
                  <a:srgbClr val="66ff66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8" name="Text Box 29"/>
                <p:cNvSpPr/>
                <p:nvPr/>
              </p:nvSpPr>
              <p:spPr>
                <a:xfrm>
                  <a:off x="6782040" y="198144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Future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9" name="AutoShape 30"/>
                <p:cNvSpPr/>
                <p:nvPr/>
              </p:nvSpPr>
              <p:spPr>
                <a:xfrm>
                  <a:off x="533520" y="1828800"/>
                  <a:ext cx="2895480" cy="609840"/>
                </a:xfrm>
                <a:prstGeom prst="leftArrow">
                  <a:avLst>
                    <a:gd name="adj1" fmla="val 50000"/>
                    <a:gd name="adj2" fmla="val 118698"/>
                  </a:avLst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20" name="Text Box 31"/>
                <p:cNvSpPr/>
                <p:nvPr/>
              </p:nvSpPr>
              <p:spPr>
                <a:xfrm>
                  <a:off x="2133720" y="1981440"/>
                  <a:ext cx="8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as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1" name="Line 32"/>
              <p:cNvSpPr/>
              <p:nvPr/>
            </p:nvSpPr>
            <p:spPr>
              <a:xfrm>
                <a:off x="3429000" y="2286000"/>
                <a:ext cx="0" cy="16002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22" name="Line 33"/>
              <p:cNvSpPr/>
              <p:nvPr/>
            </p:nvSpPr>
            <p:spPr>
              <a:xfrm>
                <a:off x="6400800" y="2286000"/>
                <a:ext cx="0" cy="16002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723" name="Text Box 34"/>
            <p:cNvSpPr/>
            <p:nvPr/>
          </p:nvSpPr>
          <p:spPr>
            <a:xfrm>
              <a:off x="3429000" y="2514600"/>
              <a:ext cx="990720" cy="4597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hav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24" name="Text Box 35"/>
            <p:cNvSpPr/>
            <p:nvPr/>
          </p:nvSpPr>
          <p:spPr>
            <a:xfrm>
              <a:off x="2438640" y="2971800"/>
              <a:ext cx="99036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en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25" name="Text Box 36"/>
            <p:cNvSpPr/>
            <p:nvPr/>
          </p:nvSpPr>
          <p:spPr>
            <a:xfrm>
              <a:off x="2819520" y="3429000"/>
              <a:ext cx="12193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26" name="Rectangle 38"/>
          <p:cNvSpPr/>
          <p:nvPr/>
        </p:nvSpPr>
        <p:spPr>
          <a:xfrm>
            <a:off x="1981080" y="1905120"/>
            <a:ext cx="2514600" cy="213336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27" name="Rectangle 39"/>
          <p:cNvSpPr/>
          <p:nvPr/>
        </p:nvSpPr>
        <p:spPr>
          <a:xfrm>
            <a:off x="1981080" y="4572000"/>
            <a:ext cx="2438640" cy="2133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D809-F7FA-4AA1-BE41-E77F216EFF5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Think about the future as if it is the past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730" name="Group 14"/>
          <p:cNvGrpSpPr/>
          <p:nvPr/>
        </p:nvGrpSpPr>
        <p:grpSpPr>
          <a:xfrm>
            <a:off x="380880" y="2438280"/>
            <a:ext cx="8458200" cy="990720"/>
            <a:chOff x="380880" y="2438280"/>
            <a:chExt cx="8458200" cy="990720"/>
          </a:xfrm>
        </p:grpSpPr>
        <p:pic>
          <p:nvPicPr>
            <p:cNvPr id="1731" name="Picture 4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2438280" y="2438280"/>
              <a:ext cx="4176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2" name="Rectangle 5"/>
            <p:cNvSpPr/>
            <p:nvPr/>
          </p:nvSpPr>
          <p:spPr>
            <a:xfrm>
              <a:off x="1981080" y="2971800"/>
              <a:ext cx="1371600" cy="3045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3" name="Text Box 6"/>
            <p:cNvSpPr/>
            <p:nvPr/>
          </p:nvSpPr>
          <p:spPr>
            <a:xfrm>
              <a:off x="1904760" y="29718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4" name="AutoShape 7"/>
            <p:cNvSpPr/>
            <p:nvPr/>
          </p:nvSpPr>
          <p:spPr>
            <a:xfrm>
              <a:off x="3352680" y="2819160"/>
              <a:ext cx="5486400" cy="609840"/>
            </a:xfrm>
            <a:prstGeom prst="rightArrow">
              <a:avLst>
                <a:gd name="adj1" fmla="val 50000"/>
                <a:gd name="adj2" fmla="val 224911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629400" y="29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6" name="AutoShape 9"/>
            <p:cNvSpPr/>
            <p:nvPr/>
          </p:nvSpPr>
          <p:spPr>
            <a:xfrm>
              <a:off x="380880" y="2819160"/>
              <a:ext cx="1600200" cy="609840"/>
            </a:xfrm>
            <a:prstGeom prst="leftArrow">
              <a:avLst>
                <a:gd name="adj1" fmla="val 50000"/>
                <a:gd name="adj2" fmla="val 65599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7" name="Text Box 10"/>
            <p:cNvSpPr/>
            <p:nvPr/>
          </p:nvSpPr>
          <p:spPr>
            <a:xfrm>
              <a:off x="1143000" y="2971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38" name="Text Box 11"/>
          <p:cNvSpPr/>
          <p:nvPr/>
        </p:nvSpPr>
        <p:spPr>
          <a:xfrm>
            <a:off x="609480" y="5181480"/>
            <a:ext cx="784872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By 2 o’clock tomorrow, I will have been baking pizza for two hours.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739" name="Picture 12" descr="F:\PFiles\MSOffice\Clipart\standard\stddir2\dd01422_.wmf"/>
          <p:cNvPicPr/>
          <p:nvPr/>
        </p:nvPicPr>
        <p:blipFill>
          <a:blip r:embed="rId2"/>
          <a:stretch/>
        </p:blipFill>
        <p:spPr>
          <a:xfrm>
            <a:off x="5638680" y="1752480"/>
            <a:ext cx="298440" cy="381240"/>
          </a:xfrm>
          <a:prstGeom prst="rect">
            <a:avLst/>
          </a:prstGeom>
          <a:ln w="0">
            <a:noFill/>
          </a:ln>
        </p:spPr>
      </p:pic>
      <p:sp>
        <p:nvSpPr>
          <p:cNvPr id="1740" name="AutoShape 13"/>
          <p:cNvSpPr/>
          <p:nvPr/>
        </p:nvSpPr>
        <p:spPr>
          <a:xfrm>
            <a:off x="2971800" y="1523880"/>
            <a:ext cx="2743200" cy="381240"/>
          </a:xfrm>
          <a:prstGeom prst="rightArrow">
            <a:avLst>
              <a:gd name="adj1" fmla="val 50000"/>
              <a:gd name="adj2" fmla="val 179887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1" name="Rectangle 17"/>
          <p:cNvSpPr/>
          <p:nvPr/>
        </p:nvSpPr>
        <p:spPr>
          <a:xfrm>
            <a:off x="5410080" y="2133720"/>
            <a:ext cx="762120" cy="2286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2" name="AutoShape 18"/>
          <p:cNvSpPr/>
          <p:nvPr/>
        </p:nvSpPr>
        <p:spPr>
          <a:xfrm>
            <a:off x="3733920" y="1981080"/>
            <a:ext cx="1676160" cy="533520"/>
          </a:xfrm>
          <a:prstGeom prst="leftArrow">
            <a:avLst>
              <a:gd name="adj1" fmla="val 50000"/>
              <a:gd name="adj2" fmla="val 78543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3" name="Line 19"/>
          <p:cNvSpPr/>
          <p:nvPr/>
        </p:nvSpPr>
        <p:spPr>
          <a:xfrm>
            <a:off x="6172200" y="2362320"/>
            <a:ext cx="0" cy="2590560"/>
          </a:xfrm>
          <a:prstGeom prst="line">
            <a:avLst/>
          </a:prstGeom>
          <a:ln w="1260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4" name="Line 20"/>
          <p:cNvSpPr/>
          <p:nvPr/>
        </p:nvSpPr>
        <p:spPr>
          <a:xfrm>
            <a:off x="5410080" y="2362320"/>
            <a:ext cx="0" cy="2590560"/>
          </a:xfrm>
          <a:prstGeom prst="line">
            <a:avLst/>
          </a:prstGeom>
          <a:ln w="1260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5" name="Text Box 21"/>
          <p:cNvSpPr/>
          <p:nvPr/>
        </p:nvSpPr>
        <p:spPr>
          <a:xfrm>
            <a:off x="34290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tomorrow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6" name="Text Box 22"/>
          <p:cNvSpPr/>
          <p:nvPr/>
        </p:nvSpPr>
        <p:spPr>
          <a:xfrm>
            <a:off x="6172200" y="3505320"/>
            <a:ext cx="762120" cy="36828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7" name="Text Box 27"/>
          <p:cNvSpPr/>
          <p:nvPr/>
        </p:nvSpPr>
        <p:spPr>
          <a:xfrm>
            <a:off x="457200" y="5791320"/>
            <a:ext cx="29718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future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48" name="Group 38"/>
          <p:cNvGrpSpPr/>
          <p:nvPr/>
        </p:nvGrpSpPr>
        <p:grpSpPr>
          <a:xfrm>
            <a:off x="3733920" y="3505320"/>
            <a:ext cx="2438280" cy="533160"/>
            <a:chOff x="3733920" y="3505320"/>
            <a:chExt cx="2438280" cy="533160"/>
          </a:xfrm>
        </p:grpSpPr>
        <p:sp>
          <p:nvSpPr>
            <p:cNvPr id="1749" name="Rectangle 28"/>
            <p:cNvSpPr/>
            <p:nvPr/>
          </p:nvSpPr>
          <p:spPr>
            <a:xfrm>
              <a:off x="5410080" y="3657600"/>
              <a:ext cx="762120" cy="2286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50" name="AutoShape 29"/>
            <p:cNvSpPr/>
            <p:nvPr/>
          </p:nvSpPr>
          <p:spPr>
            <a:xfrm>
              <a:off x="3733920" y="3505320"/>
              <a:ext cx="1676160" cy="533160"/>
            </a:xfrm>
            <a:prstGeom prst="leftArrow">
              <a:avLst>
                <a:gd name="adj1" fmla="val 50000"/>
                <a:gd name="adj2" fmla="val 78596"/>
              </a:avLst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51" name="Text Box 32"/>
          <p:cNvSpPr/>
          <p:nvPr/>
        </p:nvSpPr>
        <p:spPr>
          <a:xfrm>
            <a:off x="457200" y="6248520"/>
            <a:ext cx="29718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resen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2" name="Text Box 33"/>
          <p:cNvSpPr/>
          <p:nvPr/>
        </p:nvSpPr>
        <p:spPr>
          <a:xfrm>
            <a:off x="5410080" y="3886200"/>
            <a:ext cx="762120" cy="36828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hav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3" name="Text Box 34"/>
          <p:cNvSpPr/>
          <p:nvPr/>
        </p:nvSpPr>
        <p:spPr>
          <a:xfrm>
            <a:off x="3581280" y="5791320"/>
            <a:ext cx="281952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as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4" name="Text Box 35"/>
          <p:cNvSpPr/>
          <p:nvPr/>
        </p:nvSpPr>
        <p:spPr>
          <a:xfrm>
            <a:off x="4572000" y="4267080"/>
            <a:ext cx="83808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5" name="Text Box 36"/>
          <p:cNvSpPr/>
          <p:nvPr/>
        </p:nvSpPr>
        <p:spPr>
          <a:xfrm>
            <a:off x="3581280" y="6248520"/>
            <a:ext cx="533412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Notice “baking” is in the future, present and past.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6" name="Text Box 37"/>
          <p:cNvSpPr/>
          <p:nvPr/>
        </p:nvSpPr>
        <p:spPr>
          <a:xfrm>
            <a:off x="5105520" y="4648320"/>
            <a:ext cx="1295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7" name="Text Box 39"/>
          <p:cNvSpPr/>
          <p:nvPr/>
        </p:nvSpPr>
        <p:spPr>
          <a:xfrm>
            <a:off x="5410080" y="2971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by 2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8" name="Rectangle 40"/>
          <p:cNvSpPr/>
          <p:nvPr/>
        </p:nvSpPr>
        <p:spPr>
          <a:xfrm>
            <a:off x="3505320" y="2666880"/>
            <a:ext cx="3962160" cy="2438640"/>
          </a:xfrm>
          <a:prstGeom prst="rect">
            <a:avLst/>
          </a:prstGeom>
          <a:noFill/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9" name="Rectangle 41"/>
          <p:cNvSpPr/>
          <p:nvPr/>
        </p:nvSpPr>
        <p:spPr>
          <a:xfrm>
            <a:off x="2666880" y="1371600"/>
            <a:ext cx="3733920" cy="121932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791D-CCC2-447F-B6E6-6CC9A20947F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Think about the past as if it is the future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762" name="Group 12"/>
          <p:cNvGrpSpPr/>
          <p:nvPr/>
        </p:nvGrpSpPr>
        <p:grpSpPr>
          <a:xfrm>
            <a:off x="380880" y="2209680"/>
            <a:ext cx="8458200" cy="990720"/>
            <a:chOff x="380880" y="2209680"/>
            <a:chExt cx="8458200" cy="990720"/>
          </a:xfrm>
        </p:grpSpPr>
        <p:pic>
          <p:nvPicPr>
            <p:cNvPr id="1763" name="Picture 5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6705720" y="2209680"/>
              <a:ext cx="41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4" name="Rectangle 6"/>
            <p:cNvSpPr/>
            <p:nvPr/>
          </p:nvSpPr>
          <p:spPr>
            <a:xfrm>
              <a:off x="6095880" y="2743200"/>
              <a:ext cx="1447920" cy="3045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5" name="Text Box 7"/>
            <p:cNvSpPr/>
            <p:nvPr/>
          </p:nvSpPr>
          <p:spPr>
            <a:xfrm>
              <a:off x="5943600" y="2743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6" name="AutoShape 8"/>
            <p:cNvSpPr/>
            <p:nvPr/>
          </p:nvSpPr>
          <p:spPr>
            <a:xfrm>
              <a:off x="7543800" y="2590560"/>
              <a:ext cx="1295280" cy="609840"/>
            </a:xfrm>
            <a:prstGeom prst="rightArrow">
              <a:avLst>
                <a:gd name="adj1" fmla="val 50000"/>
                <a:gd name="adj2" fmla="val 53099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7" name="Text Box 9"/>
            <p:cNvSpPr/>
            <p:nvPr/>
          </p:nvSpPr>
          <p:spPr>
            <a:xfrm>
              <a:off x="7543800" y="27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8" name="AutoShape 10"/>
            <p:cNvSpPr/>
            <p:nvPr/>
          </p:nvSpPr>
          <p:spPr>
            <a:xfrm>
              <a:off x="380880" y="2590560"/>
              <a:ext cx="5715000" cy="609840"/>
            </a:xfrm>
            <a:prstGeom prst="leftArrow">
              <a:avLst>
                <a:gd name="adj1" fmla="val 50000"/>
                <a:gd name="adj2" fmla="val 234283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9" name="Text Box 11"/>
            <p:cNvSpPr/>
            <p:nvPr/>
          </p:nvSpPr>
          <p:spPr>
            <a:xfrm>
              <a:off x="1981080" y="2743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70" name="Text Box 13"/>
          <p:cNvSpPr/>
          <p:nvPr/>
        </p:nvSpPr>
        <p:spPr>
          <a:xfrm>
            <a:off x="533520" y="5105520"/>
            <a:ext cx="80769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Yesterday, I should have been baking pizza for the party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1" name="AutoShape 14"/>
          <p:cNvSpPr/>
          <p:nvPr/>
        </p:nvSpPr>
        <p:spPr>
          <a:xfrm>
            <a:off x="3200400" y="1371600"/>
            <a:ext cx="3429000" cy="533520"/>
          </a:xfrm>
          <a:prstGeom prst="leftArrow">
            <a:avLst>
              <a:gd name="adj1" fmla="val 50000"/>
              <a:gd name="adj2" fmla="val 160678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772" name="Picture 16" descr="F:\PFiles\MSOffice\Clipart\standard\stddir2\dd01422_.wmf"/>
          <p:cNvPicPr/>
          <p:nvPr/>
        </p:nvPicPr>
        <p:blipFill>
          <a:blip r:embed="rId2"/>
          <a:stretch/>
        </p:blipFill>
        <p:spPr>
          <a:xfrm>
            <a:off x="2895480" y="1676520"/>
            <a:ext cx="298440" cy="380880"/>
          </a:xfrm>
          <a:prstGeom prst="rect">
            <a:avLst/>
          </a:prstGeom>
          <a:ln w="0">
            <a:noFill/>
          </a:ln>
        </p:spPr>
      </p:pic>
      <p:sp>
        <p:nvSpPr>
          <p:cNvPr id="1773" name="Rectangle 17"/>
          <p:cNvSpPr/>
          <p:nvPr/>
        </p:nvSpPr>
        <p:spPr>
          <a:xfrm>
            <a:off x="2666880" y="2057400"/>
            <a:ext cx="76212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4" name="AutoShape 18"/>
          <p:cNvSpPr/>
          <p:nvPr/>
        </p:nvSpPr>
        <p:spPr>
          <a:xfrm>
            <a:off x="3429000" y="1905120"/>
            <a:ext cx="2057400" cy="533160"/>
          </a:xfrm>
          <a:prstGeom prst="rightArrow">
            <a:avLst>
              <a:gd name="adj1" fmla="val 50000"/>
              <a:gd name="adj2" fmla="val 96472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75" name="Group 21"/>
          <p:cNvGrpSpPr/>
          <p:nvPr/>
        </p:nvGrpSpPr>
        <p:grpSpPr>
          <a:xfrm>
            <a:off x="2666880" y="2286000"/>
            <a:ext cx="761760" cy="2514240"/>
            <a:chOff x="2666880" y="2286000"/>
            <a:chExt cx="761760" cy="2514240"/>
          </a:xfrm>
        </p:grpSpPr>
        <p:sp>
          <p:nvSpPr>
            <p:cNvPr id="1776" name="Line 19"/>
            <p:cNvSpPr/>
            <p:nvPr/>
          </p:nvSpPr>
          <p:spPr>
            <a:xfrm>
              <a:off x="2666880" y="2286000"/>
              <a:ext cx="0" cy="2514240"/>
            </a:xfrm>
            <a:prstGeom prst="line">
              <a:avLst/>
            </a:prstGeom>
            <a:ln w="1260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77" name="Line 20"/>
            <p:cNvSpPr/>
            <p:nvPr/>
          </p:nvSpPr>
          <p:spPr>
            <a:xfrm>
              <a:off x="3428640" y="2286000"/>
              <a:ext cx="0" cy="2514240"/>
            </a:xfrm>
            <a:prstGeom prst="line">
              <a:avLst/>
            </a:prstGeom>
            <a:ln w="1260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78" name="Text Box 22"/>
          <p:cNvSpPr/>
          <p:nvPr/>
        </p:nvSpPr>
        <p:spPr>
          <a:xfrm>
            <a:off x="533520" y="5715000"/>
            <a:ext cx="243828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as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9" name="Text Box 23"/>
          <p:cNvSpPr/>
          <p:nvPr/>
        </p:nvSpPr>
        <p:spPr>
          <a:xfrm>
            <a:off x="3962520" y="2743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yesterday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0" name="Text Box 25"/>
          <p:cNvSpPr/>
          <p:nvPr/>
        </p:nvSpPr>
        <p:spPr>
          <a:xfrm>
            <a:off x="1905120" y="4114800"/>
            <a:ext cx="76176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1" name="Rectangle 26"/>
          <p:cNvSpPr/>
          <p:nvPr/>
        </p:nvSpPr>
        <p:spPr>
          <a:xfrm>
            <a:off x="2666880" y="3429000"/>
            <a:ext cx="762120" cy="304920"/>
          </a:xfrm>
          <a:prstGeom prst="rect">
            <a:avLst/>
          </a:prstGeom>
          <a:solidFill>
            <a:srgbClr val="66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2" name="Text Box 27"/>
          <p:cNvSpPr/>
          <p:nvPr/>
        </p:nvSpPr>
        <p:spPr>
          <a:xfrm>
            <a:off x="380880" y="6248520"/>
            <a:ext cx="281952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resen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3" name="AutoShape 28"/>
          <p:cNvSpPr/>
          <p:nvPr/>
        </p:nvSpPr>
        <p:spPr>
          <a:xfrm>
            <a:off x="3429000" y="327672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4" name="Text Box 29"/>
          <p:cNvSpPr/>
          <p:nvPr/>
        </p:nvSpPr>
        <p:spPr>
          <a:xfrm>
            <a:off x="2666880" y="3733920"/>
            <a:ext cx="762120" cy="368280"/>
          </a:xfrm>
          <a:prstGeom prst="rect">
            <a:avLst/>
          </a:prstGeom>
          <a:solidFill>
            <a:srgbClr val="66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hav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5" name="Text Box 30"/>
          <p:cNvSpPr/>
          <p:nvPr/>
        </p:nvSpPr>
        <p:spPr>
          <a:xfrm>
            <a:off x="3886200" y="5715000"/>
            <a:ext cx="32004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future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6" name="Text Box 31"/>
          <p:cNvSpPr/>
          <p:nvPr/>
        </p:nvSpPr>
        <p:spPr>
          <a:xfrm>
            <a:off x="3429000" y="4114800"/>
            <a:ext cx="990720" cy="368280"/>
          </a:xfrm>
          <a:prstGeom prst="rect">
            <a:avLst/>
          </a:prstGeom>
          <a:solidFill>
            <a:srgbClr val="66ff66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7" name="Text Box 32"/>
          <p:cNvSpPr/>
          <p:nvPr/>
        </p:nvSpPr>
        <p:spPr>
          <a:xfrm>
            <a:off x="3276720" y="6248520"/>
            <a:ext cx="57150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Notice that “baking” is in the past, present and future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8" name="Text Box 34"/>
          <p:cNvSpPr/>
          <p:nvPr/>
        </p:nvSpPr>
        <p:spPr>
          <a:xfrm>
            <a:off x="2362320" y="449568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9" name="Rectangle 35"/>
          <p:cNvSpPr/>
          <p:nvPr/>
        </p:nvSpPr>
        <p:spPr>
          <a:xfrm>
            <a:off x="1828800" y="2666880"/>
            <a:ext cx="3886200" cy="2362320"/>
          </a:xfrm>
          <a:prstGeom prst="rect">
            <a:avLst/>
          </a:prstGeom>
          <a:noFill/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90" name="Rectangle 36"/>
          <p:cNvSpPr/>
          <p:nvPr/>
        </p:nvSpPr>
        <p:spPr>
          <a:xfrm>
            <a:off x="2362320" y="1295280"/>
            <a:ext cx="4572000" cy="12193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4B44-6FE8-4451-85CD-2137382521D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92" name="Group 2"/>
          <p:cNvGrpSpPr/>
          <p:nvPr/>
        </p:nvGrpSpPr>
        <p:grpSpPr>
          <a:xfrm>
            <a:off x="4038480" y="2666880"/>
            <a:ext cx="1003320" cy="1219320"/>
            <a:chOff x="4038480" y="2666880"/>
            <a:chExt cx="1003320" cy="1219320"/>
          </a:xfrm>
        </p:grpSpPr>
        <p:pic>
          <p:nvPicPr>
            <p:cNvPr id="1793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038480" y="2666880"/>
              <a:ext cx="1003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4322520" y="2941920"/>
              <a:ext cx="46656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DD44-6B73-4DA7-81BA-2B555169517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96" name="Group 2"/>
          <p:cNvGrpSpPr/>
          <p:nvPr/>
        </p:nvGrpSpPr>
        <p:grpSpPr>
          <a:xfrm>
            <a:off x="3657600" y="2362320"/>
            <a:ext cx="1692360" cy="2057400"/>
            <a:chOff x="3657600" y="2362320"/>
            <a:chExt cx="1692360" cy="2057400"/>
          </a:xfrm>
        </p:grpSpPr>
        <p:pic>
          <p:nvPicPr>
            <p:cNvPr id="1797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3657600" y="2362320"/>
              <a:ext cx="169236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4136400" y="2826720"/>
              <a:ext cx="786960" cy="59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A96-B455-494A-8330-5204B3590CA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00" name="Group 2"/>
          <p:cNvGrpSpPr/>
          <p:nvPr/>
        </p:nvGrpSpPr>
        <p:grpSpPr>
          <a:xfrm>
            <a:off x="2743200" y="1523880"/>
            <a:ext cx="3446640" cy="4191120"/>
            <a:chOff x="2743200" y="1523880"/>
            <a:chExt cx="3446640" cy="4191120"/>
          </a:xfrm>
        </p:grpSpPr>
        <p:pic>
          <p:nvPicPr>
            <p:cNvPr id="1801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2743200" y="1523880"/>
              <a:ext cx="344664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3718440" y="2469960"/>
              <a:ext cx="1602720" cy="121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F8A-7DD0-438D-BD32-2C6B33A342F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04" name="Group 5"/>
          <p:cNvGrpSpPr/>
          <p:nvPr/>
        </p:nvGrpSpPr>
        <p:grpSpPr>
          <a:xfrm>
            <a:off x="1828800" y="838080"/>
            <a:ext cx="5105160" cy="6019560"/>
            <a:chOff x="1828800" y="838080"/>
            <a:chExt cx="5105160" cy="6019560"/>
          </a:xfrm>
        </p:grpSpPr>
        <p:pic>
          <p:nvPicPr>
            <p:cNvPr id="1805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1828800" y="838080"/>
              <a:ext cx="5105160" cy="60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6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3273840" y="2197080"/>
              <a:ext cx="2373840" cy="174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F194-35C8-420C-A9E4-CE2CD70902D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e are stuck in the present.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21" name="Text Box 4"/>
          <p:cNvSpPr/>
          <p:nvPr/>
        </p:nvSpPr>
        <p:spPr>
          <a:xfrm>
            <a:off x="160020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ut, we can remember the past and think about the future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2" name="Text Box 6"/>
          <p:cNvSpPr/>
          <p:nvPr/>
        </p:nvSpPr>
        <p:spPr>
          <a:xfrm>
            <a:off x="167652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We do this with our inner eye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523" name="Picture 7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733920" y="327672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285-B0D8-4396-BE3D-B2F52F52D1D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08" name="Picture 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477120" cy="61722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7725-F03B-4733-AF9F-7944A6F78F1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10" name="Picture 2" descr=""/>
          <p:cNvPicPr/>
          <p:nvPr/>
        </p:nvPicPr>
        <p:blipFill>
          <a:blip r:embed="rId1"/>
          <a:stretch/>
        </p:blipFill>
        <p:spPr>
          <a:xfrm>
            <a:off x="1143000" y="776160"/>
            <a:ext cx="6477120" cy="608184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C426-D3F8-420B-A2F6-318ECC1C8CD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12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8686800" cy="59310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25CF-7A34-47F3-87A7-726B2B19EEA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14" name="Group 7"/>
          <p:cNvGrpSpPr/>
          <p:nvPr/>
        </p:nvGrpSpPr>
        <p:grpSpPr>
          <a:xfrm>
            <a:off x="380880" y="762120"/>
            <a:ext cx="8763120" cy="6095880"/>
            <a:chOff x="380880" y="762120"/>
            <a:chExt cx="8763120" cy="6095880"/>
          </a:xfrm>
        </p:grpSpPr>
        <p:pic>
          <p:nvPicPr>
            <p:cNvPr id="1815" name="Picture 3" descr="C:\My Documents\My Pictures\highland house\eye4.JPG"/>
            <p:cNvPicPr/>
            <p:nvPr/>
          </p:nvPicPr>
          <p:blipFill>
            <a:blip r:embed="rId1"/>
            <a:stretch/>
          </p:blipFill>
          <p:spPr>
            <a:xfrm>
              <a:off x="380880" y="762120"/>
              <a:ext cx="876312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Line 6"/>
            <p:cNvSpPr/>
            <p:nvPr/>
          </p:nvSpPr>
          <p:spPr>
            <a:xfrm>
              <a:off x="4876920" y="3733920"/>
              <a:ext cx="75960" cy="0"/>
            </a:xfrm>
            <a:prstGeom prst="line">
              <a:avLst/>
            </a:prstGeom>
            <a:ln w="19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advTm="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9B2-DF6F-44C8-818D-45CD694F947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18" name="Group 11"/>
          <p:cNvGrpSpPr/>
          <p:nvPr/>
        </p:nvGrpSpPr>
        <p:grpSpPr>
          <a:xfrm>
            <a:off x="457200" y="623880"/>
            <a:ext cx="8686800" cy="6234120"/>
            <a:chOff x="457200" y="623880"/>
            <a:chExt cx="8686800" cy="6234120"/>
          </a:xfrm>
        </p:grpSpPr>
        <p:pic>
          <p:nvPicPr>
            <p:cNvPr id="1819" name="Picture 6" descr=""/>
            <p:cNvPicPr/>
            <p:nvPr/>
          </p:nvPicPr>
          <p:blipFill>
            <a:blip r:embed="rId1"/>
            <a:stretch/>
          </p:blipFill>
          <p:spPr>
            <a:xfrm>
              <a:off x="457200" y="623880"/>
              <a:ext cx="8686800" cy="62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0" name="Rectangle 9"/>
            <p:cNvSpPr/>
            <p:nvPr/>
          </p:nvSpPr>
          <p:spPr>
            <a:xfrm>
              <a:off x="4724280" y="3657600"/>
              <a:ext cx="228600" cy="76320"/>
            </a:xfrm>
            <a:prstGeom prst="rect">
              <a:avLst/>
            </a:prstGeom>
            <a:solidFill>
              <a:srgbClr val="5b5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advTm="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09BC-3945-4503-B194-9D1528A7BB1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22" name="Group 5"/>
          <p:cNvGrpSpPr/>
          <p:nvPr/>
        </p:nvGrpSpPr>
        <p:grpSpPr>
          <a:xfrm>
            <a:off x="457200" y="743040"/>
            <a:ext cx="8686800" cy="6114960"/>
            <a:chOff x="457200" y="743040"/>
            <a:chExt cx="8686800" cy="6114960"/>
          </a:xfrm>
        </p:grpSpPr>
        <p:pic>
          <p:nvPicPr>
            <p:cNvPr id="1823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743040"/>
              <a:ext cx="8686800" cy="61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4" name="Text Box 4"/>
            <p:cNvSpPr/>
            <p:nvPr/>
          </p:nvSpPr>
          <p:spPr>
            <a:xfrm>
              <a:off x="4191120" y="350532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b5249"/>
                  </a:solidFill>
                  <a:latin typeface="Arial"/>
                </a:rPr>
                <a:t>The End</a:t>
              </a: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advTm="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BC7-9E15-4DE1-AF8D-EA5E0EA56F4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26" name="Group 4"/>
          <p:cNvGrpSpPr/>
          <p:nvPr/>
        </p:nvGrpSpPr>
        <p:grpSpPr>
          <a:xfrm>
            <a:off x="457200" y="754200"/>
            <a:ext cx="8686800" cy="6121440"/>
            <a:chOff x="457200" y="754200"/>
            <a:chExt cx="8686800" cy="6121440"/>
          </a:xfrm>
        </p:grpSpPr>
        <p:pic>
          <p:nvPicPr>
            <p:cNvPr id="1827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754200"/>
              <a:ext cx="86868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Text Box 3"/>
            <p:cNvSpPr/>
            <p:nvPr/>
          </p:nvSpPr>
          <p:spPr>
            <a:xfrm>
              <a:off x="3581280" y="31240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Arial"/>
                </a:rPr>
                <a:t>The En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1E37-CDEE-4E57-9C83-21D98247844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26" name="Text Box 4"/>
          <p:cNvSpPr/>
          <p:nvPr/>
        </p:nvSpPr>
        <p:spPr>
          <a:xfrm>
            <a:off x="1828800" y="3962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Think of this as your inner-eye. This is what we use to remember and to imagine with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527" name="Picture 6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657600" y="205740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E0B0-C1FD-4FB5-8BE5-9053D2C742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f we really think about time, we are always stuck in the present. 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pic>
        <p:nvPicPr>
          <p:cNvPr id="1530" name="Picture 3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657600" y="3124080"/>
            <a:ext cx="184644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531" name="Group 8"/>
          <p:cNvGrpSpPr/>
          <p:nvPr/>
        </p:nvGrpSpPr>
        <p:grpSpPr>
          <a:xfrm>
            <a:off x="2438280" y="5181480"/>
            <a:ext cx="4267080" cy="1295280"/>
            <a:chOff x="2438280" y="5181480"/>
            <a:chExt cx="4267080" cy="1295280"/>
          </a:xfrm>
        </p:grpSpPr>
        <p:sp>
          <p:nvSpPr>
            <p:cNvPr id="1532" name="Rectangle 6"/>
            <p:cNvSpPr/>
            <p:nvPr/>
          </p:nvSpPr>
          <p:spPr>
            <a:xfrm>
              <a:off x="2515680" y="5181480"/>
              <a:ext cx="4189680" cy="12952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33" name="Text Box 7"/>
            <p:cNvSpPr/>
            <p:nvPr/>
          </p:nvSpPr>
          <p:spPr>
            <a:xfrm>
              <a:off x="2438280" y="5505120"/>
              <a:ext cx="418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The Present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95C5-6AB6-4875-857B-DBD9AF5987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Let’s use the inner-eye.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pic>
        <p:nvPicPr>
          <p:cNvPr id="1536" name="Picture 3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962520" y="2895480"/>
            <a:ext cx="16081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537" name="Group 14"/>
          <p:cNvGrpSpPr/>
          <p:nvPr/>
        </p:nvGrpSpPr>
        <p:grpSpPr>
          <a:xfrm>
            <a:off x="3352680" y="4800600"/>
            <a:ext cx="2743200" cy="914400"/>
            <a:chOff x="3352680" y="4800600"/>
            <a:chExt cx="2743200" cy="914400"/>
          </a:xfrm>
        </p:grpSpPr>
        <p:sp>
          <p:nvSpPr>
            <p:cNvPr id="1538" name="Rectangle 4"/>
            <p:cNvSpPr/>
            <p:nvPr/>
          </p:nvSpPr>
          <p:spPr>
            <a:xfrm>
              <a:off x="3429000" y="4800600"/>
              <a:ext cx="2590560" cy="9144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39" name="Text Box 5"/>
            <p:cNvSpPr/>
            <p:nvPr/>
          </p:nvSpPr>
          <p:spPr>
            <a:xfrm>
              <a:off x="3352680" y="5029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The 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40" name="AutoShape 6"/>
          <p:cNvSpPr/>
          <p:nvPr/>
        </p:nvSpPr>
        <p:spPr>
          <a:xfrm>
            <a:off x="5105520" y="3048120"/>
            <a:ext cx="3429000" cy="1295280"/>
          </a:xfrm>
          <a:prstGeom prst="rightArrow">
            <a:avLst>
              <a:gd name="adj1" fmla="val 50000"/>
              <a:gd name="adj2" fmla="val 66183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41" name="Text Box 8"/>
          <p:cNvSpPr/>
          <p:nvPr/>
        </p:nvSpPr>
        <p:spPr>
          <a:xfrm>
            <a:off x="5181480" y="2286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future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42" name="Group 15"/>
          <p:cNvGrpSpPr/>
          <p:nvPr/>
        </p:nvGrpSpPr>
        <p:grpSpPr>
          <a:xfrm>
            <a:off x="6019920" y="4343400"/>
            <a:ext cx="2590560" cy="1828800"/>
            <a:chOff x="6019920" y="4343400"/>
            <a:chExt cx="2590560" cy="1828800"/>
          </a:xfrm>
        </p:grpSpPr>
        <p:sp>
          <p:nvSpPr>
            <p:cNvPr id="1543" name="AutoShape 7"/>
            <p:cNvSpPr/>
            <p:nvPr/>
          </p:nvSpPr>
          <p:spPr>
            <a:xfrm>
              <a:off x="6019920" y="4343400"/>
              <a:ext cx="2590560" cy="1828800"/>
            </a:xfrm>
            <a:prstGeom prst="rightArrow">
              <a:avLst>
                <a:gd name="adj1" fmla="val 50000"/>
                <a:gd name="adj2" fmla="val 35413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44" name="Text Box 9"/>
            <p:cNvSpPr/>
            <p:nvPr/>
          </p:nvSpPr>
          <p:spPr>
            <a:xfrm>
              <a:off x="6248160" y="50292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The 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45" name="Text Box 10"/>
          <p:cNvSpPr/>
          <p:nvPr/>
        </p:nvSpPr>
        <p:spPr>
          <a:xfrm>
            <a:off x="9144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pas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46" name="AutoShape 11"/>
          <p:cNvSpPr/>
          <p:nvPr/>
        </p:nvSpPr>
        <p:spPr>
          <a:xfrm>
            <a:off x="1143000" y="3048120"/>
            <a:ext cx="3276720" cy="1295280"/>
          </a:xfrm>
          <a:prstGeom prst="leftArrow">
            <a:avLst>
              <a:gd name="adj1" fmla="val 50000"/>
              <a:gd name="adj2" fmla="val 63243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47" name="Group 16"/>
          <p:cNvGrpSpPr/>
          <p:nvPr/>
        </p:nvGrpSpPr>
        <p:grpSpPr>
          <a:xfrm>
            <a:off x="914400" y="4343400"/>
            <a:ext cx="2514600" cy="1828800"/>
            <a:chOff x="914400" y="4343400"/>
            <a:chExt cx="2514600" cy="1828800"/>
          </a:xfrm>
        </p:grpSpPr>
        <p:sp>
          <p:nvSpPr>
            <p:cNvPr id="1548" name="AutoShape 12"/>
            <p:cNvSpPr/>
            <p:nvPr/>
          </p:nvSpPr>
          <p:spPr>
            <a:xfrm>
              <a:off x="914400" y="4343400"/>
              <a:ext cx="2514600" cy="1828800"/>
            </a:xfrm>
            <a:prstGeom prst="leftArrow">
              <a:avLst>
                <a:gd name="adj1" fmla="val 50000"/>
                <a:gd name="adj2" fmla="val 34375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49" name="Text Box 13"/>
            <p:cNvSpPr/>
            <p:nvPr/>
          </p:nvSpPr>
          <p:spPr>
            <a:xfrm>
              <a:off x="1600200" y="5029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The 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2DA-8364-4405-8A8D-57490FC2851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By using the inner-eye, </a:t>
            </a:r>
            <a:br>
              <a:rPr sz="3600"/>
            </a:b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now build a time line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pic>
        <p:nvPicPr>
          <p:cNvPr id="1552" name="Picture 3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4191120" y="2057400"/>
            <a:ext cx="774720" cy="990720"/>
          </a:xfrm>
          <a:prstGeom prst="rect">
            <a:avLst/>
          </a:prstGeom>
          <a:ln w="0">
            <a:noFill/>
          </a:ln>
        </p:spPr>
      </p:pic>
      <p:sp>
        <p:nvSpPr>
          <p:cNvPr id="1553" name="Rectangle 4"/>
          <p:cNvSpPr/>
          <p:nvPr/>
        </p:nvSpPr>
        <p:spPr>
          <a:xfrm>
            <a:off x="3276720" y="3048120"/>
            <a:ext cx="25905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809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5" name="AutoShape 7"/>
          <p:cNvSpPr/>
          <p:nvPr/>
        </p:nvSpPr>
        <p:spPr>
          <a:xfrm>
            <a:off x="5867280" y="2819520"/>
            <a:ext cx="2590920" cy="914400"/>
          </a:xfrm>
          <a:prstGeom prst="rightArrow">
            <a:avLst>
              <a:gd name="adj1" fmla="val 50000"/>
              <a:gd name="adj2" fmla="val 70837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6" name="Text Box 8"/>
          <p:cNvSpPr/>
          <p:nvPr/>
        </p:nvSpPr>
        <p:spPr>
          <a:xfrm>
            <a:off x="640080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7" name="AutoShape 10"/>
          <p:cNvSpPr/>
          <p:nvPr/>
        </p:nvSpPr>
        <p:spPr>
          <a:xfrm>
            <a:off x="762120" y="2819520"/>
            <a:ext cx="2514600" cy="914400"/>
          </a:xfrm>
          <a:prstGeom prst="leftArrow">
            <a:avLst>
              <a:gd name="adj1" fmla="val 50000"/>
              <a:gd name="adj2" fmla="val 6875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8" name="Text Box 11"/>
          <p:cNvSpPr/>
          <p:nvPr/>
        </p:nvSpPr>
        <p:spPr>
          <a:xfrm>
            <a:off x="19810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9" name="Text Box 13"/>
          <p:cNvSpPr/>
          <p:nvPr/>
        </p:nvSpPr>
        <p:spPr>
          <a:xfrm>
            <a:off x="1828800" y="4724280"/>
            <a:ext cx="54100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I am baking a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1371600" y="5638680"/>
            <a:ext cx="67816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kes this action in the presen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1" name="Line 15"/>
          <p:cNvSpPr/>
          <p:nvPr/>
        </p:nvSpPr>
        <p:spPr>
          <a:xfrm>
            <a:off x="327672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2" name="Line 16"/>
          <p:cNvSpPr/>
          <p:nvPr/>
        </p:nvSpPr>
        <p:spPr>
          <a:xfrm>
            <a:off x="586728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3" name="Text Box 19"/>
          <p:cNvSpPr/>
          <p:nvPr/>
        </p:nvSpPr>
        <p:spPr>
          <a:xfrm>
            <a:off x="4191120" y="3733920"/>
            <a:ext cx="12189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4" name="Text Box 20"/>
          <p:cNvSpPr/>
          <p:nvPr/>
        </p:nvSpPr>
        <p:spPr>
          <a:xfrm>
            <a:off x="3429000" y="3733920"/>
            <a:ext cx="76212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BFDC-A314-48D8-BA2C-F632D9B859A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yesterday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67" name="Text Box 21"/>
          <p:cNvSpPr/>
          <p:nvPr/>
        </p:nvSpPr>
        <p:spPr>
          <a:xfrm>
            <a:off x="1600200" y="4724280"/>
            <a:ext cx="63244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Yesterday, I was baking a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8" name="Text Box 22"/>
          <p:cNvSpPr/>
          <p:nvPr/>
        </p:nvSpPr>
        <p:spPr>
          <a:xfrm>
            <a:off x="1371600" y="5638680"/>
            <a:ext cx="67816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kes this action in the pas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69" name="Group 30"/>
          <p:cNvGrpSpPr/>
          <p:nvPr/>
        </p:nvGrpSpPr>
        <p:grpSpPr>
          <a:xfrm>
            <a:off x="3276720" y="3505320"/>
            <a:ext cx="2590560" cy="1066680"/>
            <a:chOff x="3276720" y="3505320"/>
            <a:chExt cx="2590560" cy="1066680"/>
          </a:xfrm>
        </p:grpSpPr>
        <p:sp>
          <p:nvSpPr>
            <p:cNvPr id="1570" name="Line 23"/>
            <p:cNvSpPr/>
            <p:nvPr/>
          </p:nvSpPr>
          <p:spPr>
            <a:xfrm>
              <a:off x="327672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1" name="Line 24"/>
            <p:cNvSpPr/>
            <p:nvPr/>
          </p:nvSpPr>
          <p:spPr>
            <a:xfrm>
              <a:off x="586728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72" name="Text Box 25"/>
          <p:cNvSpPr/>
          <p:nvPr/>
        </p:nvSpPr>
        <p:spPr>
          <a:xfrm>
            <a:off x="1219320" y="3809880"/>
            <a:ext cx="83808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73" name="Group 29"/>
          <p:cNvGrpSpPr/>
          <p:nvPr/>
        </p:nvGrpSpPr>
        <p:grpSpPr>
          <a:xfrm>
            <a:off x="762120" y="2057400"/>
            <a:ext cx="7696080" cy="1676520"/>
            <a:chOff x="762120" y="2057400"/>
            <a:chExt cx="7696080" cy="1676520"/>
          </a:xfrm>
        </p:grpSpPr>
        <p:pic>
          <p:nvPicPr>
            <p:cNvPr id="1574" name="Picture 14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191120" y="2057400"/>
              <a:ext cx="774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Rectangle 15"/>
            <p:cNvSpPr/>
            <p:nvPr/>
          </p:nvSpPr>
          <p:spPr>
            <a:xfrm>
              <a:off x="3276720" y="3048120"/>
              <a:ext cx="25905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6" name="Text Box 16"/>
            <p:cNvSpPr/>
            <p:nvPr/>
          </p:nvSpPr>
          <p:spPr>
            <a:xfrm>
              <a:off x="380988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7" name="AutoShape 17"/>
            <p:cNvSpPr/>
            <p:nvPr/>
          </p:nvSpPr>
          <p:spPr>
            <a:xfrm>
              <a:off x="5867280" y="2819520"/>
              <a:ext cx="2590920" cy="914400"/>
            </a:xfrm>
            <a:prstGeom prst="rightArrow">
              <a:avLst>
                <a:gd name="adj1" fmla="val 50000"/>
                <a:gd name="adj2" fmla="val 70837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8" name="Text Box 18"/>
            <p:cNvSpPr/>
            <p:nvPr/>
          </p:nvSpPr>
          <p:spPr>
            <a:xfrm>
              <a:off x="6400800" y="3048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9" name="AutoShape 19"/>
            <p:cNvSpPr/>
            <p:nvPr/>
          </p:nvSpPr>
          <p:spPr>
            <a:xfrm>
              <a:off x="762120" y="2819520"/>
              <a:ext cx="2514600" cy="91440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1981080" y="3048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81" name="AutoShape 26"/>
            <p:cNvSpPr/>
            <p:nvPr/>
          </p:nvSpPr>
          <p:spPr>
            <a:xfrm>
              <a:off x="1828800" y="2133720"/>
              <a:ext cx="2590920" cy="609480"/>
            </a:xfrm>
            <a:prstGeom prst="leftArrow">
              <a:avLst>
                <a:gd name="adj1" fmla="val 50000"/>
                <a:gd name="adj2" fmla="val 106276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82" name="Text Box 27"/>
          <p:cNvSpPr/>
          <p:nvPr/>
        </p:nvSpPr>
        <p:spPr>
          <a:xfrm>
            <a:off x="533520" y="1676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pas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3" name="Text Box 28"/>
          <p:cNvSpPr/>
          <p:nvPr/>
        </p:nvSpPr>
        <p:spPr>
          <a:xfrm>
            <a:off x="2057400" y="3809880"/>
            <a:ext cx="11430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D36B-C685-4A85-B6AC-F98FCEF1915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tomorrow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86" name="Text Box 11"/>
          <p:cNvSpPr/>
          <p:nvPr/>
        </p:nvSpPr>
        <p:spPr>
          <a:xfrm>
            <a:off x="1447920" y="4724280"/>
            <a:ext cx="65530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omorrow, I will be baking a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7" name="Text Box 12"/>
          <p:cNvSpPr/>
          <p:nvPr/>
        </p:nvSpPr>
        <p:spPr>
          <a:xfrm>
            <a:off x="1371600" y="5638680"/>
            <a:ext cx="67816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kes this action in the future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88" name="Group 22"/>
          <p:cNvGrpSpPr/>
          <p:nvPr/>
        </p:nvGrpSpPr>
        <p:grpSpPr>
          <a:xfrm>
            <a:off x="3276720" y="3505320"/>
            <a:ext cx="2590560" cy="1066680"/>
            <a:chOff x="3276720" y="3505320"/>
            <a:chExt cx="2590560" cy="1066680"/>
          </a:xfrm>
        </p:grpSpPr>
        <p:sp>
          <p:nvSpPr>
            <p:cNvPr id="1589" name="Line 13"/>
            <p:cNvSpPr/>
            <p:nvPr/>
          </p:nvSpPr>
          <p:spPr>
            <a:xfrm>
              <a:off x="327672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0" name="Line 14"/>
            <p:cNvSpPr/>
            <p:nvPr/>
          </p:nvSpPr>
          <p:spPr>
            <a:xfrm>
              <a:off x="586728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91" name="Text Box 15"/>
          <p:cNvSpPr/>
          <p:nvPr/>
        </p:nvSpPr>
        <p:spPr>
          <a:xfrm>
            <a:off x="5867280" y="3809880"/>
            <a:ext cx="838440" cy="459720"/>
          </a:xfrm>
          <a:prstGeom prst="rect">
            <a:avLst/>
          </a:prstGeom>
          <a:solidFill>
            <a:srgbClr val="66ff66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92" name="Group 21"/>
          <p:cNvGrpSpPr/>
          <p:nvPr/>
        </p:nvGrpSpPr>
        <p:grpSpPr>
          <a:xfrm>
            <a:off x="762120" y="2057400"/>
            <a:ext cx="7696080" cy="1676520"/>
            <a:chOff x="762120" y="2057400"/>
            <a:chExt cx="7696080" cy="1676520"/>
          </a:xfrm>
        </p:grpSpPr>
        <p:pic>
          <p:nvPicPr>
            <p:cNvPr id="1593" name="Picture 4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191120" y="2057400"/>
              <a:ext cx="774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4" name="Rectangle 5"/>
            <p:cNvSpPr/>
            <p:nvPr/>
          </p:nvSpPr>
          <p:spPr>
            <a:xfrm>
              <a:off x="3276720" y="3048120"/>
              <a:ext cx="25905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5" name="Text Box 6"/>
            <p:cNvSpPr/>
            <p:nvPr/>
          </p:nvSpPr>
          <p:spPr>
            <a:xfrm>
              <a:off x="380988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6" name="AutoShape 7"/>
            <p:cNvSpPr/>
            <p:nvPr/>
          </p:nvSpPr>
          <p:spPr>
            <a:xfrm>
              <a:off x="5867280" y="2819520"/>
              <a:ext cx="2590920" cy="914400"/>
            </a:xfrm>
            <a:prstGeom prst="rightArrow">
              <a:avLst>
                <a:gd name="adj1" fmla="val 50000"/>
                <a:gd name="adj2" fmla="val 70837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7" name="Text Box 8"/>
            <p:cNvSpPr/>
            <p:nvPr/>
          </p:nvSpPr>
          <p:spPr>
            <a:xfrm>
              <a:off x="6400800" y="3048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8" name="AutoShape 9"/>
            <p:cNvSpPr/>
            <p:nvPr/>
          </p:nvSpPr>
          <p:spPr>
            <a:xfrm>
              <a:off x="762120" y="2819520"/>
              <a:ext cx="2514600" cy="91440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9" name="Text Box 10"/>
            <p:cNvSpPr/>
            <p:nvPr/>
          </p:nvSpPr>
          <p:spPr>
            <a:xfrm>
              <a:off x="1981080" y="3048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00" name="AutoShape 16"/>
            <p:cNvSpPr/>
            <p:nvPr/>
          </p:nvSpPr>
          <p:spPr>
            <a:xfrm flipH="1">
              <a:off x="4724280" y="2133720"/>
              <a:ext cx="2819520" cy="609480"/>
            </a:xfrm>
            <a:prstGeom prst="leftArrow">
              <a:avLst>
                <a:gd name="adj1" fmla="val 50000"/>
                <a:gd name="adj2" fmla="val 115653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01" name="Text Box 17"/>
          <p:cNvSpPr/>
          <p:nvPr/>
        </p:nvSpPr>
        <p:spPr>
          <a:xfrm>
            <a:off x="4876920" y="1676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future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02" name="Group 23"/>
          <p:cNvGrpSpPr/>
          <p:nvPr/>
        </p:nvGrpSpPr>
        <p:grpSpPr>
          <a:xfrm>
            <a:off x="6714360" y="3809880"/>
            <a:ext cx="1667520" cy="459720"/>
            <a:chOff x="6714360" y="3809880"/>
            <a:chExt cx="1667520" cy="459720"/>
          </a:xfrm>
        </p:grpSpPr>
        <p:sp>
          <p:nvSpPr>
            <p:cNvPr id="1603" name="Text Box 18"/>
            <p:cNvSpPr/>
            <p:nvPr/>
          </p:nvSpPr>
          <p:spPr>
            <a:xfrm>
              <a:off x="7238880" y="3809880"/>
              <a:ext cx="114300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04" name="Text Box 20"/>
            <p:cNvSpPr/>
            <p:nvPr/>
          </p:nvSpPr>
          <p:spPr>
            <a:xfrm>
              <a:off x="6714360" y="3809880"/>
              <a:ext cx="51912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63F-E19D-4E9A-BDA0-D57AA044E42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Arial"/>
              </a:rPr>
              <a:t>What Marks the Past, Present, and Future?</a:t>
            </a:r>
            <a:endParaRPr b="0" lang="en-US" sz="32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607" name="Group 25"/>
          <p:cNvGrpSpPr/>
          <p:nvPr/>
        </p:nvGrpSpPr>
        <p:grpSpPr>
          <a:xfrm>
            <a:off x="762120" y="2057400"/>
            <a:ext cx="7696080" cy="1676520"/>
            <a:chOff x="762120" y="2057400"/>
            <a:chExt cx="7696080" cy="1676520"/>
          </a:xfrm>
        </p:grpSpPr>
        <p:pic>
          <p:nvPicPr>
            <p:cNvPr id="1608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191120" y="2057400"/>
              <a:ext cx="774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Rectangle 4"/>
            <p:cNvSpPr/>
            <p:nvPr/>
          </p:nvSpPr>
          <p:spPr>
            <a:xfrm>
              <a:off x="3276720" y="3048120"/>
              <a:ext cx="25905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0" name="Text Box 5"/>
            <p:cNvSpPr/>
            <p:nvPr/>
          </p:nvSpPr>
          <p:spPr>
            <a:xfrm>
              <a:off x="380988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1" name="AutoShape 6"/>
            <p:cNvSpPr/>
            <p:nvPr/>
          </p:nvSpPr>
          <p:spPr>
            <a:xfrm>
              <a:off x="5867280" y="2819520"/>
              <a:ext cx="2590920" cy="914400"/>
            </a:xfrm>
            <a:prstGeom prst="rightArrow">
              <a:avLst>
                <a:gd name="adj1" fmla="val 50000"/>
                <a:gd name="adj2" fmla="val 70837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2" name="Text Box 7"/>
            <p:cNvSpPr/>
            <p:nvPr/>
          </p:nvSpPr>
          <p:spPr>
            <a:xfrm>
              <a:off x="6400800" y="3048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3" name="AutoShape 8"/>
            <p:cNvSpPr/>
            <p:nvPr/>
          </p:nvSpPr>
          <p:spPr>
            <a:xfrm>
              <a:off x="762120" y="2819520"/>
              <a:ext cx="2514600" cy="91440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4" name="Text Box 9"/>
            <p:cNvSpPr/>
            <p:nvPr/>
          </p:nvSpPr>
          <p:spPr>
            <a:xfrm>
              <a:off x="1981080" y="3048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15" name="Text Box 10"/>
          <p:cNvSpPr/>
          <p:nvPr/>
        </p:nvSpPr>
        <p:spPr>
          <a:xfrm>
            <a:off x="838080" y="4724280"/>
            <a:ext cx="7696440" cy="119124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Notice that “</a:t>
            </a: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” is in the past, present and future. It really has no tense. It is just a continuation of an action which is marked by the “ing”. 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6" name="Line 12"/>
          <p:cNvSpPr/>
          <p:nvPr/>
        </p:nvSpPr>
        <p:spPr>
          <a:xfrm>
            <a:off x="327672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7" name="Line 13"/>
          <p:cNvSpPr/>
          <p:nvPr/>
        </p:nvSpPr>
        <p:spPr>
          <a:xfrm>
            <a:off x="586728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18" name="Group 26"/>
          <p:cNvGrpSpPr/>
          <p:nvPr/>
        </p:nvGrpSpPr>
        <p:grpSpPr>
          <a:xfrm>
            <a:off x="3429000" y="3809880"/>
            <a:ext cx="1981080" cy="459720"/>
            <a:chOff x="3429000" y="3809880"/>
            <a:chExt cx="1981080" cy="459720"/>
          </a:xfrm>
        </p:grpSpPr>
        <p:sp>
          <p:nvSpPr>
            <p:cNvPr id="1619" name="Text Box 19"/>
            <p:cNvSpPr/>
            <p:nvPr/>
          </p:nvSpPr>
          <p:spPr>
            <a:xfrm>
              <a:off x="4191120" y="3809880"/>
              <a:ext cx="121896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0" name="Text Box 20"/>
            <p:cNvSpPr/>
            <p:nvPr/>
          </p:nvSpPr>
          <p:spPr>
            <a:xfrm>
              <a:off x="3429000" y="3809880"/>
              <a:ext cx="762120" cy="4597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am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621" name="Group 27"/>
          <p:cNvGrpSpPr/>
          <p:nvPr/>
        </p:nvGrpSpPr>
        <p:grpSpPr>
          <a:xfrm>
            <a:off x="1219320" y="3809880"/>
            <a:ext cx="1981080" cy="459720"/>
            <a:chOff x="1219320" y="3809880"/>
            <a:chExt cx="1981080" cy="459720"/>
          </a:xfrm>
        </p:grpSpPr>
        <p:sp>
          <p:nvSpPr>
            <p:cNvPr id="1622" name="Text Box 21"/>
            <p:cNvSpPr/>
            <p:nvPr/>
          </p:nvSpPr>
          <p:spPr>
            <a:xfrm>
              <a:off x="1219320" y="3809880"/>
              <a:ext cx="83808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was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3" name="Text Box 22"/>
            <p:cNvSpPr/>
            <p:nvPr/>
          </p:nvSpPr>
          <p:spPr>
            <a:xfrm>
              <a:off x="2057400" y="3809880"/>
              <a:ext cx="114300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624" name="Group 28"/>
          <p:cNvGrpSpPr/>
          <p:nvPr/>
        </p:nvGrpSpPr>
        <p:grpSpPr>
          <a:xfrm>
            <a:off x="5867280" y="3809880"/>
            <a:ext cx="2514600" cy="459720"/>
            <a:chOff x="5867280" y="3809880"/>
            <a:chExt cx="2514600" cy="459720"/>
          </a:xfrm>
        </p:grpSpPr>
        <p:sp>
          <p:nvSpPr>
            <p:cNvPr id="1625" name="Text Box 14"/>
            <p:cNvSpPr/>
            <p:nvPr/>
          </p:nvSpPr>
          <p:spPr>
            <a:xfrm>
              <a:off x="5867280" y="3809880"/>
              <a:ext cx="838440" cy="459720"/>
            </a:xfrm>
            <a:prstGeom prst="rect">
              <a:avLst/>
            </a:prstGeom>
            <a:solidFill>
              <a:srgbClr val="66ff66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will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6" name="Text Box 17"/>
            <p:cNvSpPr/>
            <p:nvPr/>
          </p:nvSpPr>
          <p:spPr>
            <a:xfrm>
              <a:off x="7238880" y="3809880"/>
              <a:ext cx="114300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7" name="Text Box 23"/>
            <p:cNvSpPr/>
            <p:nvPr/>
          </p:nvSpPr>
          <p:spPr>
            <a:xfrm>
              <a:off x="6714360" y="3809880"/>
              <a:ext cx="51912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39:40Z</dcterms:created>
  <dc:creator>Howard Price</dc:creator>
  <dc:description/>
  <dc:language>en-US</dc:language>
  <cp:lastModifiedBy>Nadia Williams</cp:lastModifiedBy>
  <dcterms:modified xsi:type="dcterms:W3CDTF">2014-03-17T15:08:38Z</dcterms:modified>
  <cp:revision>14</cp:revision>
  <dc:subject/>
  <dc:title>Verb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